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FA69-90D6-4477-BE53-8046618DC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F6B4-9553-4C08-8707-9E0F55872E3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CE9D-3916-4388-9643-700ED098D08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E273-42BB-4C76-A0B7-975449B9C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86B-96C1-4731-9B9C-427E050B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6EF-18A7-449F-BC20-FF1B4761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D1D0E-1AD1-4972-8108-7ACF67C9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E3AB0-D5E9-42EB-A52E-0D052A2D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CF320-6CF8-4E47-B851-EF179EBF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D3808-0F39-48CB-AE0A-E00E3B24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B8933-CF58-4B7C-8A8D-942A612A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154BC-4F7C-4D8B-91A2-E4D9C960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964E5-85F6-4C5C-9167-23E0ADF8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F73B0-9EE3-4874-8534-C2334B20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D2103-228C-4762-AF6E-C579C693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FD274-08B8-4A73-88CF-BAFB4408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66C-76E4-4612-A79B-F123687D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43D15-927F-4368-9B5A-2E64EEE9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39B16-A99C-4C42-A05A-B9076DD5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1FC36-0398-4B71-A9F4-D0FA6D53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8FB26-8ECB-443D-98FC-90DD34C9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50985-1240-49A8-93BD-C42F8A67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6573D-1EC5-4A65-8EC7-81624350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F0AFA-F7EF-4D9B-8C05-758A4016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A5B54-BB55-4C42-934D-44ECC23E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D046A-FAED-4364-A4A9-5B1A037E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987B2-6B1F-4E9D-BE42-13D9E5E2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CE9-B682-4C14-92AF-F30E04FE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D68E7-C0E4-4847-95F2-90502F83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8C301-4ADE-427C-8A00-89E85A84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F1ED7-88F0-4569-9654-8C8A57EF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935D6-4BD8-4D37-8F55-4B26C0C4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B81BF-ED4C-4328-93C5-B17BBC44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00B04-2C61-4DAD-A7AB-7C96ABFD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31B8B-E2C5-464C-B484-0C61A7BD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A1517-C3FA-44A3-AB74-0A04F64A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6CD02-A7BF-4DB9-BEA2-9BD18121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1BEC1-1EF6-414C-95A3-F7552126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C8A0-D63B-49AB-972E-DDDF66ED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E8105-32B6-4320-AC29-F47C7590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17CB8-8906-43FA-BBD5-16E56234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76FD6-1A68-4954-8D71-896EB1C1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0683A-E050-4874-B276-1A5F7826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CD6CD-74BD-42F5-B150-22069D31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563A2-C974-49F8-A0B8-D3009622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F66F5-5B0C-4FC5-A76F-F79B31F2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85FF1-27A3-4EC4-B210-D643CF78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90045-40C6-403D-957F-87C55A74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34F7F-C521-4062-9D67-5DC31481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E0EB-435D-4A64-9F82-AA5F5BCB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39D73-29D0-4577-9155-89683F50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ED89A-DF8D-400E-B8DB-964C1FB3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3015A-5881-401B-A477-F68F37D3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132BB-8BEF-43DC-85CB-7799CBEE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85766-DECF-44BE-91A1-76078AD5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C576F-2BB8-422C-8A7D-800D3DAA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BA444-A435-43F6-A94F-0800AE72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2C1D8-7C83-4007-A156-47C1795E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A6735-5B4F-4D67-8654-3BDDF3DC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54CCA-FC51-446D-9AF7-FC11F006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F338-38FB-43C7-842E-A02C4B43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A8836-6366-4ED9-87E5-0E91E5FE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09ADA-FFC5-4D94-826C-F690F00C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CF03B-3402-460F-AE14-61CBAAB7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22BBB-FC9C-4EE5-9A04-8BE88AC7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B4D19-C123-42F3-8203-AE882907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7C7A1-6346-4552-8764-3315D9CD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D1F6D-0E19-4B53-B781-4DEC0AA5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72F7C-8656-4BEF-AD07-EF0921E3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3C50A-50C3-4A9D-AC4C-F4BC6D7C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9ECEA-DA13-4FE6-9DE9-4D26F182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8405-11BB-4F7C-938C-63C3D8BC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3549E-49D4-46EE-8EDE-B67E2219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4A880-D6AD-4A77-99FF-A5F5A6FD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7BC41-6740-4C30-9433-09A027D3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918F8-2A83-4DDF-952B-C222217C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5919C-2B41-4D59-B745-CBA26C0D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19647-3652-4CDC-BCE7-8FA961C6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1B2CC9-4490-4CDA-A04A-321DB116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4ABF6A-D057-49D1-997E-2740C842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AC8B2-C206-4AE8-9B4C-1F3459D6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F2D26-11DC-46C5-8359-E54537F5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E2BF-1494-4045-A077-94B36E35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1C2D2-6077-4837-86D7-FB736CF8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6EC1AE-A322-432C-94FB-F05834C1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C3C75-CB52-4990-BECD-02E80FD5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A2348-AA48-4A62-B1BC-71C4CE40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6DA55-E582-40D6-B0C0-C769D948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FBC0E-02E6-48A9-85F3-B6CB8290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E2497-21D1-49C2-8E9E-0EA2AFAA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53EDC-DD10-4A9F-8212-443B3F45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EA6C9-3393-44C9-A912-0517BA35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CAAFA-A5C5-472F-92A6-66817A4C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2D11-50AA-4FAD-88C4-28B83AD1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8EE5E-E3C1-4692-86B5-F80F8F98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6CB45-0279-431C-BF4A-3FA14D2F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13F16-443A-4A14-B5E9-C48A910F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E2123-6AC8-4B8F-A3DC-A3478F3F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01DD3F-75BC-473B-8DF4-FD28485C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BF9BA-40E5-42A1-8702-63361830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CD9793-647C-40D8-94D4-854FC085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87CDB-7E73-42AD-8769-42C7A685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165FD-831C-4C05-991B-909E739C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7E9B7-BE3C-4292-93E7-58D1C660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3323-F651-48B9-8980-082B6F51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72D1A-156E-49D5-92B1-BCBC211D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98F28-E5C3-4FEC-8103-E3FB47E6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60CC5-4B42-4051-829F-9C5B08D6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29A47-AC97-41C3-9645-25BA5EC4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7F88AA-5AFE-46C1-9F92-CA91BBCD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83286-0A87-475F-9253-7D771DCC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B7C30-F800-4D7E-A229-30D19463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19146-7549-4408-8390-781C4CC7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87B1DF-7C5D-4D32-999E-84A9E08A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5356A3-3C1E-4EA5-B887-ED7D26EE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239-E53A-41D6-9541-60F3D5FB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ABF7-B410-48D3-B377-8664A2FE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05792E-E3EC-46E2-BA9E-CF1FA25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ACFFAE-CDC2-45C5-A044-05C14918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E121E-86CF-402A-BA36-DD0DD725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AFD19-9C1A-4300-BC6C-ADCF6312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EB49A-E922-41B6-BC2A-7667174E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AB14-83F3-4D75-B88A-8180A063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B6A1-5242-486A-9D65-C017995B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B3C8-A265-4B0A-8CEE-4A9441F0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2C45-E2A3-45B7-ACB4-F0F9C786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93432-F55A-4342-AA9F-21DCBDF7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AC3B-5ACC-425A-A850-F3589E0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F0173-F77B-45AC-AD47-5F4D9190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6377-115F-4FD5-AB2C-872BB942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9360-2435-473E-A63E-FACF4AAB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AFA-4C69-4837-9F5B-C943A096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3564-77E3-4D86-91BA-3B95A8DC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79DE-6C9D-4419-9565-EB01C276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CB2A0-1900-4D15-993B-1E40741D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E213-8F6B-481E-AE3C-18891AC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A6CC1-158A-4721-894A-8FCBB0EA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81AA9-0D20-4C1F-827F-A14CB193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10293-3B62-4CEF-98EE-7806E69E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88EF-1E01-4C16-B7C6-1ACB2E53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BFD85-C06A-41D5-9BFE-C0FA5214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84632-2AFA-4F1C-9B83-F4146DCE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3C3-9258-47A7-926D-B8436DAF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B86D7-87EF-490C-8D5C-D3A7753D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6C92D-2F96-4D94-8C91-C2192B2D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43C85-DACC-416A-8F00-28A65479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230F-07A9-4513-B55D-010FC71C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9E4D5-AA7D-4BC9-974B-4C155F7D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CCAF-0604-4918-B0E9-CD43293B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A788A-B886-49FD-B7F6-BC711013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B88C4-F946-4022-9D95-F57E5C6A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72227-AC83-4DAD-B6D8-AB5426FC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DD09F-F218-4216-90A2-33258B40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014-D052-436D-A37D-03717698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7DE20-D32F-40B4-8702-06CCCAD6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F1001-8B2C-46B0-AFDE-650374FE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81464-5EDD-40D2-8ABD-E3044E3C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69C0-251A-4D9E-B614-BCDE1F42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59933-BAB0-432D-B30F-B1D3ECEB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6C398-C640-41C9-AA14-FE21E433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9DFC4-7250-446B-A2BD-8B1F931B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995B3-E30D-4E29-90BE-5CB5878F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C60A9-D1E3-40FF-BA6A-A3FB1E89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2D282-18FF-4A7E-9C7F-A165F4DB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F08-2E89-408D-9BC4-DD0022F9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3C4D5-F75C-4FA0-B301-3BE6B14B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D49C4-C0F7-4A07-818A-F755E9B9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918C9-6015-4B8B-90B7-25D056E4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AFC0B-4E72-4A16-9D9F-87F8C28A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F1415-5A1E-44C8-9210-7E96CB11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77BA7-20DC-4F49-B673-4353EAAE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285AC-4BDE-466C-8E52-41B4D761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3C692-11EE-4004-B7EC-A04A7522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B9DDC-664E-459A-AA09-81DCE3AB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9B441-1A88-425A-81A5-71FC7D0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EA0-6FEC-475B-BC51-E3DC114F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2EBA4-E5C3-47A4-AD65-AC986ED5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C51EB-C455-4CA4-B8BC-D79A5BF4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F5C59-4EC5-4CD3-8C11-4C1AD180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0C332-F184-4E40-9878-63CB48B5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95E0C-4E61-49C1-98B9-296C8F2C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BA48F-9CC7-4E6B-B00E-EE0F071C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10C40-A93A-4F8F-806A-1DC9671B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20A66-46E3-4A2B-AF0E-A7819CEF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F613B-9453-4027-AE89-3F940880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92482-EE69-46E1-92B6-84AFF51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C38-036F-4FC9-A13B-CCF3AE48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1E56B-D80E-4BB2-B3A2-8402C240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31640-81ED-4E12-9659-F10397FC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F9CAF-544C-41CD-AC5A-66BAF2E1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D0533-07B9-4A9F-AFB6-8E632B69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4B457-8FDC-40B8-B89A-63783C4E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6F84F-D4D6-4708-8820-0709DC6E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03B3B-3214-4CB7-A877-9FA95A4C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177AA-85EF-4A1D-9BE4-C5EA905B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78E49-E091-4517-9409-6CC06357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90F11-BC74-485A-8DF4-08741486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CD3-9B2A-44CB-BACF-34C26DDD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0AA4E-81EB-42F0-955E-B11167CA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132C1-6B1F-438B-ADA6-996DFC1A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3C35E-4A7C-462D-8D95-7A9CB342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5891C-3627-4F3D-BF48-D60972D6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DD487-7B4D-4400-8942-44BE8625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C9F70-75CF-4A0A-9BA7-D0E9804D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E963D-AD58-4F3B-9E60-29CA6052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5A1B8-6E8D-4C97-AE9F-47CF5F0B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C3801-40EB-4130-96DF-411397D2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4D442-A9BE-4DEE-8A9C-2D1A5D65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1A4B-8576-4CC0-B056-BBAD0EA83D5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6064-D55F-426F-9E8F-164B9FDCE49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064E-1838-41F1-80A7-01C77DC9A9F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1F18-C74E-4460-98C6-38A7F3110B4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6C96-1603-4CAA-B2D6-3C1682B4E81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D241-C52F-4452-9639-1D95673235C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06D8-0818-400A-9578-72635D6CC0A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11C2-8A62-41D4-962E-47334F84AFB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0BC5-A02E-4A7A-8834-2F78F119038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7AAF-4B97-4E8E-882C-8743AE6E5E2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E937-C5A4-4A36-97A1-BBDF6F951F1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1510-0CAE-469F-A352-2298C4FA676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73F0-9521-4EF5-B017-9DA46308D65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F732-40C6-4ED7-9770-59BF570EB4E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99D6-F17E-4301-800D-8FA6A716836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D4D4-78F8-4267-B8BF-4C1FC5A4EFA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4F26-14C9-450B-B095-93EEAA9611B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0EF4-E9E7-4022-9ECE-62B94A03C1A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D9CD-B7BE-449A-88AF-3667CB2CA73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3807-4ABE-4C4D-B10D-68C1C195FFB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4F0F-39A7-4BB2-B389-1E9F6E28F91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A258-9E28-42B2-B48C-DAF4EAA32A9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B975-20E6-4F28-AA0A-DFAD88CC985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3D0E-3653-45C0-B2A0-A2D549B0D50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40A7-1E1A-4256-8984-DFCE51430EC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45CB-6DF5-417A-9CA1-D96E9C9918E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6DA9-3560-4116-B50F-04C0C5DA45A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0C2B-52C7-4632-9A04-4B3C198C81C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D4D7-07EC-451B-9483-6F24ED1E05E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EEE1-50C3-41DF-98B7-7B2872A0798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1A46-E79E-44AE-8B35-A5EF7BE595D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DAEB-6A6F-4864-A9C5-ADD20EF3D42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CA59-E198-4973-B481-91AB96F1DBE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DCF2-2A4C-4C8D-BD7F-CFB615CA065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ncpcr.gov.in/user_complaints.php" TargetMode="External"/><Relationship Id="rId2" Type="http://schemas.openxmlformats.org/officeDocument/2006/relationships/hyperlink" Target="http://www.ncpcr.gov.in/user_complaints.php" TargetMode="External"/><Relationship Id="rId3" Type="http://schemas.openxmlformats.org/officeDocument/2006/relationships/hyperlink" Target="http://www.ncpcr.gov.in/user_complaints.php" TargetMode="External"/><Relationship Id="rId4" Type="http://schemas.openxmlformats.org/officeDocument/2006/relationships/hyperlink" Target="http://www.ncpcr.gov.in/user_complaints.php" TargetMode="External"/><Relationship Id="rId5" Type="http://schemas.openxmlformats.org/officeDocument/2006/relationships/hyperlink" Target="http://www.ncpcr.gov/" TargetMode="External"/><Relationship Id="rId6" Type="http://schemas.openxmlformats.org/officeDocument/2006/relationships/hyperlink" Target="http://www.ncpcr.gov/" TargetMode="External"/><Relationship Id="rId7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5" descr=""/>
          <p:cNvPicPr/>
          <p:nvPr/>
        </p:nvPicPr>
        <p:blipFill>
          <a:blip r:embed="rId2"/>
          <a:stretch/>
        </p:blipFill>
        <p:spPr>
          <a:xfrm>
            <a:off x="4724280" y="-228600"/>
            <a:ext cx="4572000" cy="647712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38693"/>
                </a:solidFill>
                <a:latin typeface="Arial Unicode MS"/>
                <a:cs typeface="Arial Unicode MS"/>
              </a:rPr>
              <a:t>தனியாள்</a:t>
            </a:r>
            <a:r>
              <a:rPr b="1" lang="ta-IN" sz="3600" spc="-1" strike="noStrike">
                <a:solidFill>
                  <a:srgbClr val="238693"/>
                </a:solidFill>
                <a:latin typeface="Arial Unicode MS"/>
                <a:ea typeface="Arial Unicode MS"/>
              </a:rPr>
              <a:t> </a:t>
            </a:r>
            <a:r>
              <a:rPr b="1" lang="en-IN" sz="3600" spc="-1" strike="noStrike">
                <a:solidFill>
                  <a:srgbClr val="238693"/>
                </a:solidFill>
                <a:latin typeface="Arial Unicode MS"/>
                <a:ea typeface="Arial Unicode MS"/>
              </a:rPr>
              <a:t>– </a:t>
            </a:r>
            <a:r>
              <a:rPr b="1" lang="en-US" sz="3600" spc="-1" strike="noStrike">
                <a:solidFill>
                  <a:srgbClr val="238693"/>
                </a:solidFill>
                <a:latin typeface="Arial Unicode MS"/>
                <a:cs typeface="Arial Unicode MS"/>
              </a:rPr>
              <a:t>சமூக</a:t>
            </a:r>
            <a:r>
              <a:rPr b="1" lang="en-IN" sz="3600" spc="-1" strike="noStrike">
                <a:solidFill>
                  <a:srgbClr val="238693"/>
                </a:solidFill>
                <a:latin typeface="Arial Unicode MS"/>
                <a:cs typeface="Arial Unicode MS"/>
              </a:rPr>
              <a:t>த்திற்குரிய</a:t>
            </a:r>
            <a:r>
              <a:rPr b="1" lang="ta-IN" sz="3600" spc="-1" strike="noStrike">
                <a:solidFill>
                  <a:srgbClr val="238693"/>
                </a:solidFill>
                <a:latin typeface="Arial Unicode MS"/>
                <a:ea typeface="Arial Unicode MS"/>
              </a:rPr>
              <a:t> </a:t>
            </a:r>
            <a:r>
              <a:rPr b="1" lang="en-US" sz="3600" spc="-1" strike="noStrike">
                <a:solidFill>
                  <a:srgbClr val="238693"/>
                </a:solidFill>
                <a:latin typeface="Arial Unicode MS"/>
                <a:cs typeface="Arial Unicode MS"/>
              </a:rPr>
              <a:t>பண்புகளை வளர்த்தலும் பாதுகாப்பான</a:t>
            </a:r>
            <a:r>
              <a:rPr b="1" lang="en-US" sz="3600" spc="-1" strike="noStrike">
                <a:solidFill>
                  <a:srgbClr val="238693"/>
                </a:solidFill>
                <a:latin typeface="Arial Unicode MS"/>
                <a:ea typeface="Arial Unicode MS"/>
              </a:rPr>
              <a:t>, </a:t>
            </a:r>
            <a:r>
              <a:rPr b="1" lang="en-US" sz="3600" spc="-1" strike="noStrike">
                <a:solidFill>
                  <a:srgbClr val="238693"/>
                </a:solidFill>
                <a:latin typeface="Arial Unicode MS"/>
                <a:cs typeface="Arial Unicode MS"/>
              </a:rPr>
              <a:t>ஆரோக்கியமான பள்ளிச் சூழலை உருவாக்குதலும்</a:t>
            </a:r>
            <a:br>
              <a:rPr sz="3600"/>
            </a:br>
            <a:r>
              <a:rPr b="1" lang="en-US" sz="3600" spc="-1" strike="noStrike">
                <a:solidFill>
                  <a:srgbClr val="238693"/>
                </a:solidFill>
                <a:latin typeface="Arial Unicode MS"/>
                <a:ea typeface="Arial Unicode MS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உயர் தொடக்கநிலை ஆசிரியர்கள்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2437920" y="350640"/>
            <a:ext cx="30481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ுன் தொழிற்கல்வி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511200" y="1143000"/>
            <a:ext cx="8632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ற்பொழு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6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ம் வகுப்பு முதல் முன் தொழிற்கல்விக்கு முக்கியத்துவம் அளிக்கப்படு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களில் சில ஆக்கப்பூர்வமான செயல்பாடுகளை அடையாளம் கண்டு கணித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றிவியல் மற்றும் பிறபாடங்களோடு தொடர்புபடுத்தி ஒருங்கிணைத்து கற்றுத்தர வேண்டு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தாரணம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லாற்றுப் பாடத்தில் அருங்காட்சியகம் மற்றும் வரலாற்றுச் சிறப்புமிக்க பல்வேறு இடங்களை உதாரணங்களுடன் கற்பிக்கும்பொழுது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 பயணம் மற்றும் சுற்றுலா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Tourism)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பது ஒரு தொழிற்கல்வி பிரிவு எ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தை வலியுறுத்த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D99C-F390-44F9-9B35-EEACD82BBE4D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DC1A-4B85-40A1-8BD3-2F0C5A518ED2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3280" y="75960"/>
            <a:ext cx="34668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7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உயர் தொடக்கநிலை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294920" y="914400"/>
            <a:ext cx="7696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ற்றலில் வெற்றி பெற கற்கும் திறனைப் பயன்படுத்த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74320" indent="-27432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ற்கும் உபகரணங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ருவிகள் தொழில்நுட்பங்களைப் போதுமான அளவில் பயன்படுத்த கற்றுக் கொள்ள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74320" indent="-27432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டம் அனுமானங்களின் அடிப்படையில் கருதுகோ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ினாக்களை எழுப்பச் செய்து அவற்றிற்குரிய விடைகளைக் கண்டறிய ஊக்கப்படுத்த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74320" indent="-27432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மாணவனது சிந்திக்கும் திறனையும் உணர்வுகளையும் புரிந்து கொண்டு தெளிவான வகையில் தகவல் பரிமாற்றத்தை வெளிப்படுத்த கற்றுக்கொள்ள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3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E39A-F336-4444-B8FD-5BD18DE9904A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A18F-CA32-47AA-9B89-A30F93E6276C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2700-F13E-4E9F-83B4-3E565F2BDDAA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18A8-81B0-4F66-911E-B320E97339E7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761760" y="1143000"/>
            <a:ext cx="78483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து பருவத்திற்கேற்ற உடல் வளர்ச்சியில் ஏற்படும் மாற்றம் இயற்கையானது என புரிந்துகொண்டு ஏற்றுக் கொள்ளும் திறனை வளர்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ன் உடல் வளர்ச்சியில் ஏற்படும் மாற்றம் சக மாணவர்களிலிருந்து வேறுபட்டு காணப்படும் என்பதைப் புரிந்துகொண்டு ஏற்றுக்கொள்ள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ப்பார் குழுவில் நட்புணர்வை ஏற்படுத்த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லின செயல்பாடுகள் பாரம்பரியமாக ஒரே மாதிரியாக இருக்கிறது என்பதைப் புரிந்து கொள்ள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1F6F-A4DD-4B8C-BA15-09FB7500CA7C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A5F7-E457-4654-9685-AFE79B5AF3EA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1096560" y="914400"/>
            <a:ext cx="8047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ன் பல்வேறு சமூக கட்டமைப்புகளான வீட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யிற்சி மையம் போன்ற இடங்களில் சகமாணவர்களை நண்பர்களாகப் பாவி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்னுடைமை என்ற உணர்வை தம் நண்பர்களிடமும் ஒப்பார் குழுவிடமும் வளர்த்து பாராட்டி ஏற்றுக்கொள்ள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றிவுசார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ழுச்சிசார் சுதந்திரத்தை மாணவரிடத்தில் வளர்த்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றிப்பாகத் தனது உணர்வையும் பிறரது உணர்வையும் புரிந்து கொள்ளும் தன்மையை வளர்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ஆரோக்கியமான பள்ளி மற்றும் வகுப்பறைச் சூழலை உருவாக்குவதில் ஆசிரியருக்குத் தேவையான திறன்களும் பண்புகளும்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456840" y="1447920"/>
            <a:ext cx="85345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தல் மற்றும் அக்கற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just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வருக்கொருவரிடையே நல்லுறவு ஏற்ப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ட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தனை மேம்படுத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வர் மற்றவரைப் புரிந்து கொள்ளுதல் மற்றும் அக்கறையுடன் இருத்தல்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ோன்றவை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ேவையான பண்புகளா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just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றைச் சூழலி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ப்பண்புகள் ஆசிரிய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–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–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;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–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 ஆகியோ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ர்களுக்கி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டையே பிணைப்பை ஏற்படுத்த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லுப்படுத்துவதில் பெரும்பங்கு வகிக்கின்ற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35E6-7E68-4432-A5E5-29B4D37FA905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69A9-166E-4463-A850-DD1DFC22392A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6858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தல் மற்றும் அக்கறை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னது ஆசிரியர் மாணவர்களின்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ல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லவீன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ித்திறமைகளை அறிந்து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ுரிந்து பாரபட்சமின்றி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மதிப்பி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ட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தவு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ிறது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்கள் தங்களின் பலவீனங்களைக் களைய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றன்களை வலுப்படுத்த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ல்பாடுகளில் அதிக முயற்சிகளை மேற்கொள்ளவும் ஊக்குவிக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ேலும் இது உளவியல் ரீதியான பாதுகாப்பான சூழலை அவர்கள் உணரவும் வழிவகுக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0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2A0C-7897-400C-B824-A7CC677FE073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8AF8-6754-45D1-B798-7E6BFE415508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 txBox="1"/>
          <p:nvPr/>
        </p:nvSpPr>
        <p:spPr>
          <a:xfrm>
            <a:off x="510840" y="304560"/>
            <a:ext cx="8480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தல்</a:t>
            </a:r>
            <a:r>
              <a:rPr b="1" lang="en-IN" sz="2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க்கறை</a:t>
            </a:r>
            <a:r>
              <a:rPr b="1" lang="en-IN" sz="2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ுடன் இருக்கத் தேவையானவை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தல் மற்றும் அக்கறையுடன் இருப்பதற்க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வர் தன்னிடம் மற்றும் பிறரிடமிருந்து வெளிப்படும் உணர்வு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ல்பாடுகளை நன்கு கவனிப்பவராக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வர் மொழி மற்றும் மொழி சாரா நடத்தைகள் மூலம் வெளிப்படுத்தும் உணர்வுகளைய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ண்ணங்களையும் புரிந்து கொள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வராகவும் இருத்தல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ந்தப் பாகுபா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ார்பும் இல்லாமல் தன்னைய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வர்களையும் ஏற்றுக் கொள்ளக் கூடியவராக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ண்ணியத்துடன் தன்னுடைய வளங்களைப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ருள் மற்றும் அறிவுச் சார்ந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ுடன் பகிர்ந்து கொள்ளும் திறனுடையவராகவும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இருத்தல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ின் வளங்களை மதித்து நடப்பவராக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துமையுடையவராக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ுடன் பொறுமையுடன் தகவல் தொடர்பு கொள்பவராகவும் இருத்தல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EA5B-499F-4780-AFB3-4E939500175B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4050-B9AB-470F-932F-91E2DD9EA3D4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ளிடையே உணர்தலையும் அக்கறையையும் வளர்க்க உதவும் செயல்பாடுகள்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“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நம்மிடம் பொதுவாக இருப்பவை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”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511200" y="1219320"/>
            <a:ext cx="8632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் வகுப்பில் உள்ள அனைத்து மாணவர்களையும் வட்டமாக நிற்க வைத்த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ு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–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5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ை கூறச் சொல்ல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’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க் கூறியவர்கள் அனைவரும் ஒரு குழுவாக இணைய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தே போன்ற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2, 3, 4, 5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ற எண்களைக் கூறியவர்களும் தனித்தனியான குழுவாக இணைய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குழுவிற்க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4 – 5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ிமிடங்கள் அளித்து குழுவினர் கலந்துரையாடித் தங்களுக்குள் காணப்படும் ஐந்து பொதுவான பண்புகளைக் கண்டறிய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ப்பொதுவான பண்புகள் அவர்களின் வகுப்ப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யைச் சார்ந்ததாக இருக்க வேண்டும் என்பது இல்ல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5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ிமிடங்கள் முடிந்தவுடன் ஒவ்வொரு குழுவும் தங்களை அறிமுகப்படுத்திக் கொண்டு தாங்கள் கண்டறிந்த பொதுவா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5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ண்புகளைப் பகிர்ந்து கொள்ள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வ்வாறு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நாளும் ஒரு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ுழுவினரை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துக்கீடு செய்து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ந்நாள் முழுவதும் பள்ளியில் நடைபெறும் செயல்பாடுகளில் இணைந்து செயலாற்றச் செய்தல்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Date Placeholder 3"/>
          <p:cNvSpPr/>
          <p:nvPr/>
        </p:nvSpPr>
        <p:spPr>
          <a:xfrm>
            <a:off x="7772400" y="648828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698B-E4AD-4630-B721-356F819C965B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ooter Placeholder 4"/>
          <p:cNvSpPr/>
          <p:nvPr/>
        </p:nvSpPr>
        <p:spPr>
          <a:xfrm>
            <a:off x="1943280" y="6553080"/>
            <a:ext cx="571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B8E4-DB21-4F00-9C7A-2FCC7E60EA65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057040" y="76320"/>
            <a:ext cx="441972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நம்பகத்தன்மை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762120" y="11127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தன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ளாக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மட்டுமின்றி பள்ளியில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ீட்டிலும் தங்களைச் சிறப்பாக உணர ஆசிரிய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–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 உறவுமுறை முக்கியமான ஒன்றா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ன் நலனில் உண்மையில் அக்கறை செலுத்துபவரா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ின் செயல்பாடுகளில் மட்டுமின்றி வாழ்வின் ஒவ்வொரு நிலையிலும் கவனம் செலுத்துபவராகவும் மரியாதை அளிப்பவரா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ங்களை விரும்புபவராகவும் ஓர் ஆசிரியரை மாணவர்கள் உணர்ந்தால் அவர்கள் முழு முயற்ச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ஈடுபாடு மற்றும் உற்சாகத்துடனும் வகுப்பறையில் காணப்படுவ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்னுடைய எண்ணங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வுகளைப் போலவே பிறரது எண்ணத்திற்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வுகளுக்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்மையாகவும் நேர்மையாகவும் மதிப்பளிப்பதே நம்பகத்தன்மையின் அடிப்பட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BFAC-C665-4537-8905-D4F006A58209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744D-E534-4382-8126-427CA776D2AE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218960" y="76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ள் மீதான உண்மைத்தன்மை மற்றும் ஆர்வம் பின்வரும் வழிகளில் வெளிப்படுத்த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லாம்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510840" y="1294920"/>
            <a:ext cx="8327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பள்ளி வளாகத்திற்குள்ளோ அல்லது வகுப்பறைக்குள்ளோ இன்முகத்துடன் வாழ்த்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ணக்க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ூறுதல்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ிகளின் பெயர்களைக் கொண்டு அழை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ட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“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ைய நாளை எவ்வாறு உணருகிறாய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ல்லது இன்றைய தினம் எப்படி உள்ள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”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ோன்ற வினாக்களைக் கேட்டு அவர்களிடம் பொறுமையுடன் நின்று கேட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றிப்பாக இவ்வினாக்களைப் பொது இடங்களில் பேச வெட்கப்படும் அல்லது கருத்துகளைக் கூற இயலாத மாணவர்களிடம் கேட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ை நேருக்கு நேர் பார்த்து அவர்கள் அமைதியாக மேற்கொள்ளும் செயல்களைப் பாராட்டுதல் வேண்டு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2490-131A-4430-BDA5-723CF250E699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E47F-4292-4803-B892-210F79784F71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Unicode MS"/>
                <a:cs typeface="Arial Unicode MS"/>
              </a:rPr>
              <a:t>அறிமுகம்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366920" y="750600"/>
            <a:ext cx="7624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ன் அறிவுசார் வளர்ச்சி மற்றும் திறன் அளிப்பதில் ஆசிரியர் ஏதுவாளராக செயல்பட்டு குழந்தையின் முழுமையான வளர்ச்சியை உறுதிபடுத்துவதிலும் முக்கிய பங்காற்ற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ேண்டு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ிமனித சமூக பண்புகளான தகவல் தொடர்பு திறன் மேம்பட்டிருப்பதால் தனிநப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ல்வி வளர்ச்சியிலும் மேம்பட்ட திறன் பெற்றிருப்ப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ன்றாட வாழ்வில் மாணவர்களிடையே உறவின் மதிப்பை மேம்படுத்த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ுடன் ஆரோக்கியமான உறவை வளர்ப்பதற்கும் பயனுள்ள தகவல் தொடர்பு திறன்களை வளர்ப்பது அவசியமா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1141-BEDC-48C7-BFE3-4CF4E7B625F5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D81E-7367-4730-8BF3-58590771B688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218960" y="76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ள் மீதான உண்மைத்தன்மை மற்றும் ஆர்வம் பின்வரும் வழிகளில் வெளிப்படுத்த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லாம்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304920" y="1294920"/>
            <a:ext cx="8534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ேட்கப்பட வேண்டிய சில கேள்விகள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னது ஓய்வு நேரத்தில் நீ என்ன செய்வாய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ன்னைச் சுய அறிமுகம் செய்ய அழைக்கப்படும்போது உன்னைப்பற்றி நீ என்ன கூறுவாய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ீ என்ன செய்யும் போது மிகவும் மகிழ்ச்சியடைகிறாய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து உன்னை மிகுந்த வருத்தத்திற்கு உள்ளாக்கு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ீ வளர்ந்து பெரியவனாகும் போது என்ன செய்ய விரும்புகிறாய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3711-DCEB-4BE9-B270-FAA43AA044F4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64CE-6CA1-46D7-8E8C-6AA856F7B9DD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10840" y="0"/>
            <a:ext cx="848052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வகுப்பறைக்குள் ஒரு காட்சிப் பலகை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1096920" y="1152000"/>
            <a:ext cx="7742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வாரமும் ஒவ்வொர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ும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தனது படைப்புகளைக்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ட்சிப் பலகையில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ட்சிப்படுத்தச் செய்யவும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ப்பலகையில் தனிநபர் தன்னைப்பற்றிய தகவல்களை அல்லது படைப்புகளை ஆசிரியரும் சக மாணவர்களும் அறியும் வண்ணம் வெளிப்படுத்தச் செய்ய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ில் புதிதாக எழுதப்பட்ட கவிதைகள் பள்ளியில் அல்லது வீட்டில் நிகழ்ந்த மகிழ்ச்சியான நிகழ்வுகள் போன்றவற்றைக் காட்சிப்படுத்தலா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FD76-1E37-4EBA-AC54-F38DC2C2970F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F3D5-1015-4460-A4FB-12246E37F242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295280" y="242640"/>
            <a:ext cx="784872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ெற்றோர் ஆசிரியர் </a:t>
            </a:r>
            <a:r>
              <a:rPr b="0" lang="en-US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சங்கக் </a:t>
            </a:r>
            <a:r>
              <a:rPr b="0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ூட்டம்</a:t>
            </a:r>
            <a:r>
              <a:rPr b="0" lang="en-US" sz="3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TA Meeting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762120" y="144792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ெற்றோர்களிடம் மாணவர்களைப் பற்றி நேர்மறையான பின்னூட்டம் வழங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தனுடன் அவன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ள் தன்னை முன்னேற்றிக் கொள்ள வேண்டிய இடங்களையும் சேர்த்த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ூற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ேலும் அவர்கள் தங்களுடைய சக மாணவர்களிடத்திலும் மற்றும் பள்ளியின் அமைச்சுப் பணியாளர்களிடத்திலும் எவ்வாறு நடந்து கொள்கிறார்கள் என்பதையும் கூற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38B3-85F0-4AD5-98D5-5A40BF4FB74B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0FBA-E2E6-4E12-8EF1-269ED2152EFD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லந்</a:t>
            </a:r>
            <a:r>
              <a:rPr b="1" lang="en-US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ுரையாடல்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914400" y="5335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ங்கேற்பாளர்களைப் பல குழுக்களாக பிரி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குழுவும் முறையே மாணவர்களா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ெற்றோர்களா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களாகவும் மற்றும் தலைமையாசிரியர்களாகவும் செயல்படுமா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ணி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க்குழுக்களுக்க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5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ிமிட நேரம் கொடுத்து பெற்றோர் ஆசிரியர் கூட்டத்திற்கு முன் பகிரப்பட வேண்டிய எண்ணங்கள் மற்றும் கருத்துகளை விவாதிக்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செய்ய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வருக்கும் இரண்டு நிமிடங்கள் கொடுத்து தனது எண்ணங்களையும் பிரச்சினைகளையும் விவாதிக்கச் செய்ய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4B59-985C-4CF9-97FC-C79DB66BF46F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3130-73C6-42B3-91F9-D9286AA9A6E2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066680" y="-7632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ளிடம் உண்மையான ஆர்வம்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அக்கறை மற்றும் ஒருவருக்கொருவர் மரியாதை செலுத்துதல் போன்ற பண்புகளில் விழிப்புணர்வை ஏற்படுத்த உதவும் செயல்பாடு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228240" y="1306080"/>
            <a:ext cx="89154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ை நான்கு குழுக்கள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அ’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‘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’ ‘இ’ ‘ஈ’ எனப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பிரி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லின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 கலாச்சார பின்னண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றமை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…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ேறுபாடின்ற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குழுவுக்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ும் குழ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செயலை அளி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ச் செயல்பாடு தேவைப்படும் ஒரு பாடத்தை இச்செயலுக்காக நீங்கள் தெரிவு செய்யலா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 இரண்டு குழுக்களான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’ 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ில் ஒரு குழுவ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ிற்கு உதவி செய்து வழங்கப்பட்ட செயலை முடிக்கச் செய்ய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டுத்த குழுவா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ை உற்றுநோக்கச் செய்து பின்னூட்டம் அளிக்கச் செய்ய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ேவைப்படின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னால் செயலை முடிப்பதில் வேறு எந்த உதவியும் செய்யக் கூடா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ல் முடிந்தவுடன் குழு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ும் குழு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ன்வருவன சார்ந்த தங்கள் உணர்வுகளைப் பகிர்ந்து கொள்ள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4" name="Date Placeholder 3"/>
          <p:cNvSpPr/>
          <p:nvPr/>
        </p:nvSpPr>
        <p:spPr>
          <a:xfrm>
            <a:off x="7772400" y="647712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5FC6-EB1A-4B09-B682-B39E349B615E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ooter Placeholder 4"/>
          <p:cNvSpPr/>
          <p:nvPr/>
        </p:nvSpPr>
        <p:spPr>
          <a:xfrm>
            <a:off x="1943280" y="6568920"/>
            <a:ext cx="571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F38D-68D8-4D40-817B-05FA95418084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066320" y="-76680"/>
            <a:ext cx="2667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ொடர்ச்சி</a:t>
            </a:r>
            <a:r>
              <a:rPr b="1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..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457200" y="12189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ச்செயலைச் செய்யும்போது அடுத்த குழுவின் பங்கு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லில் அவர்களுக்கு உதவிய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தவாத பண்புகளைப் பட்டியலிட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ும் குழ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கிய இரு குழுவினரும் தங்களுக்கு அளிக்கப்பட்ட பணியை மேற்கொண்டபோது உற்றுநோக்கியவற்றையும் தங்களின் உணர்வுகளையும் பகிர்ந்து கொள்ள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வரை ஒருவர் சார்ந்து செயல்படுதலின் முக்கியத்துவத்தைக் குழுவில் விவாதிக்க ஊக்கப்படுத்த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இந்த பண்பை வீட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 அல்லது வேறு எந்த இடத்தில் பயன்படுத்துவர் என்பதைப் பட்டியலிடச் செய்ய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9" name="Date Placeholder 3"/>
          <p:cNvSpPr/>
          <p:nvPr/>
        </p:nvSpPr>
        <p:spPr>
          <a:xfrm>
            <a:off x="7772400" y="648828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5C8C-ED7B-4702-9AA1-D934C5F6ADAB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ooter Placeholder 4"/>
          <p:cNvSpPr/>
          <p:nvPr/>
        </p:nvSpPr>
        <p:spPr>
          <a:xfrm>
            <a:off x="1943280" y="6553080"/>
            <a:ext cx="571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57DE-8A11-4A00-AD8D-1E7D76E3EA40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68680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ன்மீதும் பிறர்மீதும் கொண்ட </a:t>
            </a:r>
            <a:br>
              <a:rPr sz="3200"/>
            </a:br>
            <a:r>
              <a:rPr b="1" lang="ta-IN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நேர்மறை எண்ணங்கள் 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685800" y="1371600"/>
            <a:ext cx="830592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ேர்மறை எண்ணங்களைப் பெற்றிருப்பது மிக முக்கியமான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னைத் தங்களுக்குள்ள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ங்கள் மாணவர்களுக்கிடையேயும் வளர்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ஒருவருக்கொருவர் நட்புணர்வு பாராட்டி எதிர் காலங்களில் வரும் தடைகளை எதிர்கொள்ளச் செய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க்கும் பிறருக்கும் நல்லவர்களாக நடந்துகொள்வ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ான் தொடங்காற்றலினால் பிறரைக்காட்டிலும் முன்னிலை வகிப்ப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ூட்டுணர்வு மனப்பான்மையுடன் இருப்ப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தையும் மகிழ்ச்சியாக எடுத்துக் கொள்வது போன்றவை தன்மீதும் பிறர்மீதும் கொண்ட நேர்மறை எண்ணங்களுள் முக்கியத்துவம் வாய்ந்தவ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51BE-56DA-438F-BA23-BD7E333ECF1B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7E2B-2170-4F66-853D-E5E8491C6865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10840" y="-76680"/>
            <a:ext cx="8327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ன்னிடமும் பிறரிடமும் </a:t>
            </a:r>
            <a:r>
              <a:rPr b="1" lang="en-US" sz="2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ொண்ட நேர்மறை எண்ணங்களை</a:t>
            </a:r>
            <a:r>
              <a:rPr b="1" lang="ta-IN" sz="20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ஆசிரியர்களிடமும் மாணவர்களிடமும் வளர்ப்பதற்கான செயல்பாடு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04560" y="685440"/>
            <a:ext cx="883908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        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உங்களின் மற்றும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ோன்றோரின் பலம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நேர்மறையான குணங்களைப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ின்வரும் பட்டியலில் எழுதவும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 நான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………………………     இ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்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 ………………….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டுத்துக்காட்ட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 எனக்கு உதவிகரமாக இருப்பதாக உணர்கிறேன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 நான் பொறுமையாக இருப்பதாக உணர்கிறேன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 நான் ஆர்வமாக இருப்பதாக உணர்கிறேன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்மைத் தன்மையுடன் இருப்பதாக உணர்ந்தனர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ட்பாக இருப்பதாக உணர்ந்தனர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ல்பந்து விளையாடியவுடன் உற்சாகமாக உணர்ந்தனர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5F65-6271-4301-9C7F-5638F628D4D0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369F-5568-40C1-A50C-79B6A03A824E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10840" y="-76680"/>
            <a:ext cx="8327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ொடர்ச்சி…</a:t>
            </a:r>
            <a:r>
              <a:rPr b="1" lang="en-US" sz="20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..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511200" y="685440"/>
            <a:ext cx="86328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    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உங்களின் மற்றும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ோன்றோரின் பலம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நேர்மறையான குணங்களைப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ின்வரும் பட்டியலில் எழுதவும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றிப்பு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வருக்கும் தன்னைப் பற்றிய ஒரு பண்புப் பட்டியலைப் பெற்றிருப்ப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ற்றில் தங்களைப் பற்றிய புதிய பண்பைக் கண்டறிந்தால் அதனையும் இணைத்துக் கொள்ளலா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நபர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ற்றிய பண்புப் பட்டியலை வைத்திருப்ப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தனுடன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ற்றிய நேர்மறைப் பண்பைக் கண்டறிந்தால் அதனையும் இணைத்துக் கொள்ளலா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ப்பொழுதெல்லாம் எதிர்மறை மனவெழுச்சி தங்களுக்குள் மேலோங்குகிறதோ அப்போது மாணவர்களைத் தங்களைப் பற்றிய பட்டியலைப் பார்க்கச் சொல்ல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ச்சோர்வ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 அழுத்த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ுத்த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வல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.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ே போன்றே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் எதிர்மறை மனவெழுச்சி அடையும்பொழுது தங்களைப் பற்றிய பட்டியலைப் பார்க்கச் சொல்ல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806F-5FE5-4A6A-87FA-6E5ADDF72446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D001-D783-4FFF-93E3-752F6B3E9ED2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லைமைப் பண்பு</a:t>
            </a:r>
            <a:r>
              <a:rPr b="1" lang="en-US" sz="32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: </a:t>
            </a:r>
            <a:r>
              <a:rPr b="1" lang="en-US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ுழு விவாதம்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 </a:t>
            </a:r>
            <a:br>
              <a:rPr sz="25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0948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் குழு அல்லது வகுப்பில் உங்களுக்கேற்ற தலைவர் யார் என நீங்கள் கருதுகிறீ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ந்த நபரைப் பற்றி சிந்தித்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் பார்வையில் ஏன் அவர் தலைவராக இருக்கிறார் என்பதற்கான விளக்கத்தினை ஒரு சில வார்த்தைகளில் குறிப்பிடு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் உடனடி சுற்றுப்புறத்தைச் சார்ந்த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ீட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ண்டை அயலா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ன பிற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ரையெல்லாம் நீங்கள் தலைவராகக் கருதுகிறீ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தற்குரிய ஒவ்வொருவரின் பண்புகளைப் பற்றியும் சில வரிகள் எழுது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ில் அல்லது வகுப்பில் குறிப்பிடப்பட்ட அனைத்து தலைமைப் பண்புகளையும் பட்டியலிடு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ின் கருத்துகளைப் பற்றி வகுப்பிலுள்ள அனைவரிடமும் கலந்துரையாடு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6AF3-C7AB-40BF-9DC6-6AA295EFAE72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EAA9-5F2A-4B22-B334-2102C66E58EE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Unicode MS"/>
                <a:cs typeface="Arial Unicode MS"/>
              </a:rPr>
              <a:t>நோக்கம்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837720" y="9140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ிநப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 பண்புகளைப் பற்றிய புரிதலை ஏற்படுத்த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ிமனித மற்றும் சமூகப் பண்புகளை வெளிப்படுத்துவதன் மூலம் மாணவர்களிடம் அவற்றை வளர்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றையில் வழிகாட்டுவதற்குத் தேவையான பண்புகளையும் திறன்களையும் வளர்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வராலும் ஏற்றுக் கொள்ளக்கூடிய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்னம்பிக்கையுடைய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துகாப்பான பிறரின் நலனில் அக்கறை கொண்ட சூழல் உடைய பள்ளி மற்றும் வகுப்பறையை உருவாக்க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F792-F65A-44AC-9AD7-363A8FAB3C20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4BD3-4347-4352-A2D5-513572C37922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249200" y="-76680"/>
            <a:ext cx="7894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ஒத்துழைப்பைப் பாராட்டுதலுக்கான ஆசிரியர்</a:t>
            </a:r>
            <a:r>
              <a:rPr b="1" lang="en-US" sz="3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, </a:t>
            </a:r>
            <a:r>
              <a:rPr b="1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 செயல்பாடு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096560" y="1204560"/>
            <a:ext cx="8047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றையி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உள்ள மூன்று குழுவிலிருந்து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ோராயமா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’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0’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ைத் தேர்ந்தெட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க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கள்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‘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ை ஊக்கப்படுத்து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ற கருப்பொருளில் ஒரு சுவரொட்டிய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யாரிக்க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2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‘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ீர் சேமிப்ப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ற கருப்பொருளி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ுவரொட்டியைத் தயாரிக்க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3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ற்றுநோக்குபவர்கள்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க்குழுச் செயல்பாட்டினை உற்றுநோக்கச் செய்ய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ல்பாடுகளைச் செய்து முடித்தபின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ினர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ாக இணைந்து செயல்பட்ட அனுபவங்களைய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ின் உணர்வுகளையும் பகிர்ந்துக் கொள்ள செய்ய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ேல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் ஒத்துழைப்பு மற்றும் போட்டி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மனப்பான்மையின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நன்மைகளைப் பற்றியும் பகிர்ந்து கொள்ள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DA73-D352-4091-97B2-4270509CE10D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5074-E26A-47A6-BB51-534E6312EB3C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914040" y="-62280"/>
            <a:ext cx="8047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ுறையான தகவல் பரிமாற்றத் திறன்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1044720" y="609120"/>
            <a:ext cx="80229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ஓர் ஆசிரியருக்கு தகவல் பரிமாற்றத்திறன் நன்றாக இருந்தால் அதிகப்படியான கருத்துகளை பொருளுணர்ந்து ஆர்வத்துடன் வெளிப்படுத்த முடிய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ொழ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ொழிச்சார்பற்ற செயல்கள் உட்பட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சிறந்த கற்றல் சூழல் என்பது ஆசிரியர் கேள்விகளை எழுப்பி அக்கேள்விக்கு கற்போர் எவ்வாறு பதிலை வெளிப்படுத்துகின்றனர் என்பத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ரிவுடனும் பொறுமையுடனும் கவனித்து அதற்கேற்ப பதிலளித்தலைக் குறிக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ை நல்ல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தகவல் பரிமாற்றத்திறன்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ெற்றிப்பவராக  உருவா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9" name="Date Placeholder 3"/>
          <p:cNvSpPr/>
          <p:nvPr/>
        </p:nvSpPr>
        <p:spPr>
          <a:xfrm>
            <a:off x="7772400" y="648828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05C1-D3FF-4F2B-81B4-C9430AB8B0AA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4"/>
          <p:cNvSpPr/>
          <p:nvPr/>
        </p:nvSpPr>
        <p:spPr>
          <a:xfrm>
            <a:off x="1943280" y="649296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A21F-B2CF-4C26-90E9-AA71514578B8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447920" y="76320"/>
            <a:ext cx="678168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வனித்தல் மற்றும் பதிலளித்தல்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வனித்தல் திறன் என்பது தகவல் தொடர்பில் முக்கிய பங்காற்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ிற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துவாக மக்கள் தகவல் பரிமாற்றத்திற்கு ஐந்து வகையான துலங்கல் பதிலளிக்கும் திறன்களை தினசரி இடைவினையாற்றலில் பயன்படுத்துகின்றன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தன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EISPU-Evaluative -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திப்பீட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Interpretative -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ிளக்க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Supportive -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தரவ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Probing -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ய்வ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&amp; Understanding –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ுரிந்துணர்வ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ஐவகை துலங்கலை ஒட்டுமொத்தம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ண்டுணரும்போது நம்பகத்தன்மையும் வெளிப்படும் தன்மையும் மேம்படுத்துகின்ற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்திறன்கள் மாணவர்கள் தங்களின் உணர்வுகளை வெளிப்படுத்த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ரியான தகுந்த முடிவினை எடுக்கவும் நடத்தை மாற்றத்த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ட்டமைக்கவும் வாய்ப்புகளை அளிக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98F4-4A10-4A4B-B1FB-C2BBB22487C8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AA4C-1AFD-40A3-A0EE-0F47AEC4B067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</a:t>
            </a:r>
            <a:r>
              <a:rPr b="1" lang="ta-IN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ுதன்மைக் கருத்தாளர்கள்</a:t>
            </a:r>
            <a:r>
              <a:rPr b="1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, </a:t>
            </a:r>
            <a:r>
              <a:rPr b="1" lang="ta-IN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ஆசிரியர்கள் மற்றும் </a:t>
            </a:r>
            <a:r>
              <a:rPr b="1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       </a:t>
            </a:r>
            <a:r>
              <a:rPr b="1" lang="ta-IN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உயர்தொடக்கநிலை மாணவர்களுக்கான </a:t>
            </a:r>
            <a:br>
              <a:rPr sz="2800"/>
            </a:br>
            <a:r>
              <a:rPr b="1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              </a:t>
            </a:r>
            <a:r>
              <a:rPr b="1" lang="ta-IN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ிரதிபலிக்கும் செயல்பாடு</a:t>
            </a:r>
            <a:r>
              <a:rPr b="1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510840" y="1599840"/>
            <a:ext cx="8404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் என்ன சொல்கிறார்கள் என்பதைப் புரிந்து கொள்வதற்காக அவர்களை மீண்டும் மீண்டும் கூறும்படி கேட்கிறீர்களா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வர் கூறுவத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வனிக்கும்போது இருக்கை நுனியில் அமர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ேருக்கு நேர் பார்த்தல் போன்ற உடல் ரீதியான செயல்பாடுகளை மேற்கொள்கிறீர்களா என்பத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ோதி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து கவனிக்கும் திறனை மேம்படுத்த தேவைப்படும் காரணிகளைப் பட்டியலிடு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9829-BAB1-483C-9375-34C78AF7F674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00FC-667F-4B2B-BD3C-51CEF66E2413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ிறர் நிலையில் தன்னை வைத்துப் பார்த்தல்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ுடைய நிலையில் அல்லது சூழலில் தன்னை  நிலை நிறுத்திப் பார்த்து அவர்களுக்காக வருந்த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ின் உணர்வுகளைப் புரிந்து கொள்வத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்திறனான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ொரு நபரின் நிலைய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வைத்து பார்த்தல் போன்றதா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ன் மனமுறிவ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ோப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ய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குபாடு போன்ற மனவெழுச்சிகளை வெளிப்படுத்தும்போது ஒருவர் அவர் நிலையிலிருந்து தன்ன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ர்க்க வேண்டு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்திறன்கள் மாணவர்கள் தாங்களே தங்களின் பிரச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ி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ைகளை அடையாளம் கண்டுகொண்டும் அப்பிரச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ி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ைக்கு வருத்தம் அடையாமல் தங்கள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ற்காத்துக் கொள்ளும் விதமாகவும் அமை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9B44-AFF3-49CB-8CAA-91EF53883000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40DC-8F1E-478F-80AC-7285C7604812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096920" y="-76680"/>
            <a:ext cx="7894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ிறர்நிலையில் தன்னை வைத்துப் பார்க்கும் திறனை</a:t>
            </a:r>
            <a:r>
              <a:rPr b="1" lang="en-US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் </a:t>
            </a:r>
            <a:r>
              <a:rPr b="1" lang="ta-IN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ுரிந்து கொள்வதற்கான செயல்பாடு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456840" y="1152360"/>
            <a:ext cx="853452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ங்கேற்பாளர்களை வட்டத்தில் நிற்க செய்யவ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னைத்து பங்கேற்பாளர்களையும் தங்களது காலணிகளை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ழற்றி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ங்கள் பக்கத்தில் வைக்கச் சொல்லவ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ழிகாட்டுபவர் கையைத் தட்டிக் கொண்டிருக்கும் வரை பங்கேற்பாளர்க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ள் </a:t>
            </a: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ொடர்ந்து வட்டத்தில் சுற்றிக் கொண்டே இருக்க வேண்ட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ை தட்டும் ஓசை நிற்கும்போது பங்கேற்பாளர்கள் தற்போது தங்கள் அருகில் உள்ள காலணிகளை அணியச் சொல்லவ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ன் கை தட்டும் ஓசை கேட்கும் வரை பங்கேற்பாளர்கள் அணிந்துள்ள காலணிகளுடன் வட்டத்தில் சுற்றிக் கொண்டே இருக்க வேண்ட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ுற்றி வரும்பேது அவரவர்கள் முதன் முதலில் நின்ற இடம் வரும்போது அணிந்துள்ள காலணிகளுடன் அமரச் சொல்ல வேண்ட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ுடிவில் பங்கேற்பாளர்கள் அடுத்தவரின் காலணியுடன் சுற்றி வந்த அனுபவத்தைக் கூறச் சொல்ல வேண்ட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71D2-9E9E-4BCC-A0AD-C9F15A98B50F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E697-F46F-4EB3-8FEC-092104BA0C6B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218960" y="76320"/>
            <a:ext cx="792468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ளின் அனுபவத்தின் வாயிலான முன்னேற்றம்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1096920" y="2133720"/>
            <a:ext cx="7437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நிலையி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ின் சொற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ரலில் ஏற்றத்தாழ்வு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ண் அசைவுகள் போன்றவற்றின் மூலமாக வெளிப்படுத்துவது போலவே ஆசிரியர்களும் பதிலளிப்பது மாணவர்களிடம் பிறர் நிலையில் தன்னை வைத்து பார்க்கும் நிலையை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க்க வைத்துக் கொள்ள உதவு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3368-157B-4B4A-AAAC-E9043658A280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DD9E-6553-4FB6-AF5B-6F441878F98D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ுதன்மைக் கருத்தாளர்கள்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ஆசிரியர்கள் மற்றும் எட்டாம் வகுப்பு மாணவர்களுக்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ான </a:t>
            </a:r>
            <a:br>
              <a:rPr sz="2400"/>
            </a:b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ிரதிபலிப்பு செயல்பாடு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228240" y="22860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          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ன்வரும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ட்டவணையில் உள்ள திறன்களில் எந்தெந்த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றன்களை நீ பெற்றுள்ளாய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ந்தெந்த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றன்களுக்க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யிற்சி தேவைப்படுகிறது மேலும் எந்தெந்த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றன்களை வளர்க்க விரும்புகிறாய் எ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ண்டறி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ங்களிடம் உள்ள மற்றும் இல்லாத திறன்களின் அடிப்படையில் குறிப்புகள் அமைப்பதில் கவனமாக இரு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9C01-1DF3-47E4-AA73-17D119414770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2ED0-7386-4D37-A47D-08DF78FAE9D0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28600" y="-76320"/>
            <a:ext cx="861048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ுதன்மைக் கருத்தாளர்கள்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ஆசிரியர்கள் மற்றும் எட்டாம் வகுப்பு மாணவர்களுக்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ான 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ிரதிபலிப்பு செயல்பாடு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3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76D0-3AB1-42E8-AFEA-E14EE4311A33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2B86-A8CD-40D9-AE42-A8D27BCD12F4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6" name=""/>
          <p:cNvGraphicFramePr/>
          <p:nvPr/>
        </p:nvGraphicFramePr>
        <p:xfrm>
          <a:off x="228600" y="990720"/>
          <a:ext cx="8763120" cy="5873760"/>
        </p:xfrm>
        <a:graphic>
          <a:graphicData uri="http://schemas.openxmlformats.org/drawingml/2006/table">
            <a:tbl>
              <a:tblPr/>
              <a:tblGrid>
                <a:gridCol w="3557520"/>
                <a:gridCol w="2800440"/>
                <a:gridCol w="2405160"/>
              </a:tblGrid>
              <a:tr h="66204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திறன்கள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ஏற்கனவே தங்களிடம் உள்ளவ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வளர்க்க தேவைப்படுபவ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5211720">
                <a:tc>
                  <a:txBody>
                    <a:bodyPr lIns="55800" rIns="5580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உணர்திறன்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மற்றவர்களை ஏற்றுக் கொள்ளும் தன்மை</a:t>
                      </a: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தகவமைத்துக் கொள்வதில் நெகிழ்வுத்தன்ம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உண்மையான ஆர்வத்தை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ப் </a:t>
                      </a: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பெறும் தன்ம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பிறர்நிலையில் தன்னை வைத்துப் பார்த்தல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சுய சிந்தன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தான் தொடங்காற்றல் திறன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கட்டளைகளுக்கு</a:t>
                      </a: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க் </a:t>
                      </a: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கீழ்</a:t>
                      </a: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ப்</a:t>
                      </a: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படியாம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தீர்ப்புகள் வழங்குதல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குழு உறுப்பினராக இணைந்து செயல்படுதல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தடைகள் மற்றும் தோல்விகளை நேர்மறை மனப்பான்மையில் எதிர்கொள்ளுதல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a-IN" sz="1200" spc="-1" strike="noStrike">
                          <a:solidFill>
                            <a:srgbClr val="ffffff"/>
                          </a:solidFill>
                          <a:latin typeface="Century Gothic"/>
                          <a:cs typeface="Latha"/>
                        </a:rPr>
                        <a:t>தலைமை ஏற்றல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Title 1" descr=""/>
          <p:cNvPicPr/>
          <p:nvPr/>
        </p:nvPicPr>
        <p:blipFill>
          <a:blip r:embed="rId1"/>
          <a:stretch/>
        </p:blipFill>
        <p:spPr>
          <a:xfrm>
            <a:off x="-49320" y="-23760"/>
            <a:ext cx="9169560" cy="6954840"/>
          </a:xfrm>
          <a:prstGeom prst="rect">
            <a:avLst/>
          </a:prstGeom>
          <a:ln w="0">
            <a:noFill/>
          </a:ln>
        </p:spPr>
      </p:pic>
      <p:sp>
        <p:nvSpPr>
          <p:cNvPr id="1368" name="Date Placeholder 4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DA63-2F66-4FDA-AB38-70087C63BB0D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Slide Number Placeholder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BE06-37BA-4943-849D-006FAF95B7CD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1" name="Picture 7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4267440" cy="419076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1372" name="Picture 8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267080" cy="419076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Unicode MS"/>
                <a:cs typeface="Arial Unicode MS"/>
              </a:rPr>
              <a:t>பள்ளிக் கல்வி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510840" y="1599840"/>
            <a:ext cx="84042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ன் ஒருங்கிணைந்த ஆளுமையை வளர்த்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lnSpc>
                <a:spcPct val="1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ளர்ச்சி வீதத்தைத் துரிதப்படுத்தும் காரணியாகச் செயல்படு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lnSpc>
                <a:spcPct val="1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றிவ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ப்பான்ம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ிழுமியங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றமைகளை வளர்க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lnSpc>
                <a:spcPct val="1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ை எதிர்கால வாழ்க்கைக்குத் தயார் செய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8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390B-8966-4CAB-9B7B-A423C2A4990E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AD83-D1D8-44B3-91D5-A086EB74A4D5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Rectangle 3"/>
          <p:cNvSpPr/>
          <p:nvPr/>
        </p:nvSpPr>
        <p:spPr>
          <a:xfrm>
            <a:off x="1333440" y="971640"/>
            <a:ext cx="6400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ேறுபாடுகளை களைவது பிரச்சினை கிடையாது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r>
              <a:rPr b="1" lang="ta-I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ாறாக எவ்வாறு வேறுபாடுகளை முழுமையாக ஒருங்கிணைப்பது என்பது தான் பிரச்சினை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– </a:t>
            </a:r>
            <a:r>
              <a:rPr b="1" lang="ta-IN" sz="28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இரவீந்தர்நாத் தாகூர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Date Placeholder 4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9964-6623-4636-8432-C3C4D8FDE970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Slide Number Placeholder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171A-3C9E-4A80-A7B4-4ED038AE7816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Cloud Callout 8"/>
          <p:cNvSpPr/>
          <p:nvPr/>
        </p:nvSpPr>
        <p:spPr>
          <a:xfrm>
            <a:off x="152280" y="150840"/>
            <a:ext cx="8763120" cy="6154560"/>
          </a:xfrm>
          <a:prstGeom prst="cloudCallout">
            <a:avLst>
              <a:gd name="adj1" fmla="val -20833"/>
              <a:gd name="adj2" fmla="val 62500"/>
            </a:avLst>
          </a:prstGeom>
          <a:noFill/>
          <a:ln cap="rnd"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10" descr=""/>
          <p:cNvPicPr/>
          <p:nvPr/>
        </p:nvPicPr>
        <p:blipFill>
          <a:blip r:embed="rId1"/>
          <a:stretch/>
        </p:blipFill>
        <p:spPr>
          <a:xfrm>
            <a:off x="5456160" y="3687840"/>
            <a:ext cx="2425680" cy="3127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1480" cy="10368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ள்ளட</a:t>
            </a:r>
            <a:r>
              <a:rPr b="0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்</a:t>
            </a: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ிய வகுப்பறையில்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ஆசிரியரின் பங்க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1142640" y="1523880"/>
            <a:ext cx="779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5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ுதுமையான கற்றல் கற்பித்தல் முறை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ற்போதுள்ள வளங்கள் ஆகியவற்றை அடையாளம் காண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ங்கேற்பு மற்றும் கற்றலில் உள்ள தடைகளை ஆய்வு செய்யவேண்டுமெனவும் கூறுகிறது</a:t>
            </a:r>
            <a:r>
              <a:rPr b="1" lang="en-GB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5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ள்ளடக்கிய மற்றும் திறம்படக் கற்பித்தல் அனைத்துக் குழந்தைகளுக்கும் நல்லது என்று ஆசிரியர்கள் நினைவில் கொள்ள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8150-F034-4C80-A0BD-21E696724789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24E4-019C-41BC-8C5F-AD89E7DCB0BE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004240" cy="83844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a5301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ிலங்குகள் பயிலகம்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ஒரு கதை ஆய்வு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914040" y="10663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ுன்னொரு காலத்தில்</a:t>
            </a:r>
            <a:r>
              <a:rPr b="1" lang="en-GB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விலங்குகளும்</a:t>
            </a:r>
            <a:r>
              <a:rPr b="1" lang="en-GB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க்களும் ஒன்றுகூடி புதிய உலகத்தின் பிரச்சனைகளுக்குத் தீர்வு காண்பதற்காக ஒரு பள்ளியைத் தொடங்கலா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என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ுடிவு செய்கிறா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ஓடுதல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ஏறுதல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நீந்துதல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றத்தல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ஆகிய செயல்பாடுகளுடைய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கலைத்திட்டம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ஒன்றை வகுத்துக் கொண்டா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லைத்திட்டதின் எல்லாச்  செயல்பாடுகளையும் எளிமையாகச்  செயல்படுத்துவதற்கு அனைத்து விலங்குகளும் அனைத்துப் பாடங்களையும் கற்றுக்கொள்கிறார்கள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6" name="Date Placeholder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EC98-5D14-4416-BDB5-95BCF3286BD7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ooter Placeholder 2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52D0-EFEB-495C-90EA-F1E8B55772E6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867800" cy="9144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9f8351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ணித்தாள்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ருத்துக்களை பகிர்ந்து கொள்</a:t>
            </a:r>
            <a:br>
              <a:rPr sz="1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1225440" y="1895400"/>
            <a:ext cx="761688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னைத்து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ிலங்குகளும்  ஏன் ஒரே பாடத்தி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ட்டத்தி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ை எடுத்துக்கொண்டன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் அனைவரும் பயன்பெற்றார்களா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1080" indent="-2797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ல்லாப்பாடங்களிலும் சராசரி செயல்பாடுகள் பள்ளியில் கொடுக்கப்பட்டுள்ளன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ா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ு எல்லா விலங்குகளுக்கும் பொருந்துமா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1080" indent="-27972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1080" indent="-279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1" name="Date Placeholder 2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B41E-1928-41E6-9829-59E3B3D5DFE1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ooter Placeholder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EFB3-50EF-45EB-AD0F-EEED62545CB3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71604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600" spc="-1" strike="noStrike">
                <a:solidFill>
                  <a:srgbClr val="000000"/>
                </a:solidFill>
                <a:latin typeface="Century Gothic"/>
                <a:cs typeface="Latha"/>
              </a:rPr>
              <a:t>கலந்துரையாடல்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1066320" y="1218960"/>
            <a:ext cx="786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அனைவரும் முறைசார் கல்வியில் மட்டும் பயில வேண்டுமென்பதற்கான காரணங்கள் எதுவும் உண்டா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னைத்து மாணவர்களையும் குழுக் கற்பித்தலில் ஈடுபடுத்துவது உள்ளடங்கிய சமூகத்தை உருவாக்குமா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6" name="Date Placeholder 2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6B83-4CAA-4AF2-9333-C1C51FAFCD4D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ooter Placeholder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1DED-8596-4162-88C8-DFA19468D483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1480" cy="13716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9f8351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ஆசிரியர்களிடம் காணப்பட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ேண்டிய திறன்கள்</a:t>
            </a:r>
            <a:br>
              <a:rPr sz="2800"/>
            </a:b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ன்முகத்தன்மையை ஏற்றுக்கொள்ளுதல் மற்றும் கையாளுதல்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914040" y="1728720"/>
            <a:ext cx="800100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லம் மற்றும் பலவீனங்க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ள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குதி மற்றும் ஆர்வம் ஆகியவற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றில்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குறைபாடுகள் உள்ள குழந்தைகளிடம் வேற்றுமையைக் கண்டறியக் கூடிய கூர்ந்து அறியும் திறன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ேற்றுமைகளைப் பாராட்டுதலுக்கு அதனை வளமாக்க கருதுதலும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ற்ற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ற்பித்தலில் மாணவர்களின் பல்வேறு சூழலையும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றிவையும் பயன்படுத்து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ெவ்வேறு கற்றல் தேவைகளை மனதில் கொண்டு செயல்படுத்த பரிவு காட்டு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ற்றல் பாங்கினை மனதில் கொண்டு அதற்கேற்றவாறு பதிலளித்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D154-B843-4B4D-BF9D-259E62107079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309B-BCCB-48D0-BCC9-F7DB69CD290A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itle 1" descr=""/>
          <p:cNvPicPr/>
          <p:nvPr/>
        </p:nvPicPr>
        <p:blipFill>
          <a:blip r:embed="rId1"/>
          <a:stretch/>
        </p:blipFill>
        <p:spPr>
          <a:xfrm>
            <a:off x="1139760" y="268200"/>
            <a:ext cx="7809120" cy="1163880"/>
          </a:xfrm>
          <a:prstGeom prst="rect">
            <a:avLst/>
          </a:prstGeom>
          <a:ln w="0">
            <a:noFill/>
          </a:ln>
        </p:spPr>
      </p:pic>
      <p:sp>
        <p:nvSpPr>
          <p:cNvPr id="1405" name=""/>
          <p:cNvSpPr txBox="1"/>
          <p:nvPr/>
        </p:nvSpPr>
        <p:spPr>
          <a:xfrm>
            <a:off x="990720" y="1599840"/>
            <a:ext cx="7943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ங்கள் கற்பித்தல் நிகழ்வில் பன்முகத்தன்மையை அறிமுகப்படுத்தும்போது இந்த திறன்களில் ஏதாவது ஒன்றைப் பயன்படுத்தி இருக்கிறீர்களா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ங்களுடைய வகுப்பறையில் கற்பவர்கள் அனைவரும் சமமாக பங்குபெறுவதற்கு ஊக்குவிக்க என்ன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ாதிரியான கற்பித்தல் உத்திகளைப் பயன்படுத்து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ிறீ</a:t>
            </a:r>
            <a:r>
              <a:rPr b="1" lang="ta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ர்கள்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647F-DE64-4581-8387-143B39ED6089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0D30-BF3F-46D4-BA74-49395DD86048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867800" cy="12952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a5301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ள்ளி அமைப்புக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ளில் </a:t>
            </a:r>
            <a:br>
              <a:rPr sz="3600"/>
            </a:br>
            <a:r>
              <a:rPr b="1" lang="ta-IN" sz="3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ள்ளட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்</a:t>
            </a:r>
            <a:r>
              <a:rPr b="1" lang="ta-IN" sz="3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ிய கல்வி 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838080" y="15235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ுழந்தைக்குப் பொருந்துமாறு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ஏற்றவாறு அமைப்பை மாற்றுதல்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ுழந்தைகள் அனைவரும் </a:t>
            </a:r>
            <a:r>
              <a:rPr b="1" lang="en-GB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ஒருவருக்கொருவர்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ே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றுபட்டவர்கள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னைத்துக் குழந்தைகளும் கல்வி கற்க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வேண்டு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்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(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ெவ்வேறு திறன்கள்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னம்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ளவு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யது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ின்னணி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ாலினம்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9EE9-C2A5-4C17-A100-F69F2FC404F7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C0B1-9684-439C-9558-4A758500BC6B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108080" y="122040"/>
            <a:ext cx="7789680" cy="14778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entury Gothic"/>
                <a:cs typeface="Latha"/>
              </a:rPr>
              <a:t>உள்ளடக்கிய கல்வி மற்றும் மாற்றுத்திறனாளிகள் உரிமைச் சட்டம்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016 (Right to persons with Disabilities 2016 (RPWD)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609120" y="1600200"/>
            <a:ext cx="832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lnSpc>
                <a:spcPct val="150000"/>
              </a:lnSpc>
              <a:spcBef>
                <a:spcPts val="1800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ாற்றுத் திறனாளிகள் உரிமைச் சட்டம்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2016 </a:t>
            </a:r>
            <a:r>
              <a:rPr b="1" lang="ta-IN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ள்ளடக்கிய கல்வியை ஊக்குவிக்கிறது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1" lang="ta-IN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ிறனுடைய மற்றும் மாற்றுத் திறனுடைய மாணவர்கள் அனைவரும் ஒரு சேர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ta-IN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ற்பதற்கு ஏதுவான கல்வி அமைப்பு இருக்க வேண்டும்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1" lang="ta-IN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ேலும் அந்த கல்வி அமைப்பானது வெவ்வேறு மாணவர்களின் திறன்களுக்கேற்ப தேவைகளை புரிந்த கொண்டு கற்றல் கற்பித்தல் செயல்பாடுகளை அமைக்க வேண்டுமென இச்சட்டம் வலியுறுத்துகிறது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262800" algn="just">
              <a:lnSpc>
                <a:spcPct val="100000"/>
              </a:lnSpc>
              <a:spcBef>
                <a:spcPts val="1800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26280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4E63-B408-464D-9941-8FCEC3158118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F3DB-C96D-4386-9729-86677400B611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112400" y="228240"/>
            <a:ext cx="7497720" cy="11430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a5301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7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ள்ளடங்கிய கல்வியை மேம்படுத்துதலும் பல்வகை பாடங்களை இணைத்துக் கற்பித்தலும் 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1066320" y="1600200"/>
            <a:ext cx="786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ta-IN" sz="24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நான் ஒரு மாணவன்</a:t>
            </a:r>
            <a:r>
              <a:rPr b="1" lang="en-US" sz="2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’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இதில் உள்ள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6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ொடர்களைப் படித்து நிறைவு செய்க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.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ான்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ப்பொழுது மெதுவாக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ற்கிறேன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2.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ான்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ப்பொழுதும் விரைவாகக் கற்கிறேன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3.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ட நூலிருந்து கற்பது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4</a:t>
            </a:r>
            <a:r>
              <a:rPr b="1" lang="en-US" sz="1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ில் கற்பது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5.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ிடமிருந்து கற்பது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6.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ான் கற்கும் போது எப்போழுதும் மகிழ்ச்சியாக இருக்கிறேன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3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6EC-E586-4F4C-8657-F199BFF49C3A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3DB3-C666-4C39-99CF-D66FF933758E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Arial Unicode MS"/>
                <a:cs typeface="Arial Unicode MS"/>
              </a:rPr>
              <a:t>பள்ளியும் அதன் உட்கூறுகளும்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imes New Roman"/>
                <a:cs typeface="Times New Roman"/>
              </a:rPr>
              <a:t>பல்வேறு சூழல்களிலிருந்து மாணவர்கள் பள்ளிக்கு வருகின்றனர்</a:t>
            </a:r>
            <a:r>
              <a:rPr b="1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1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imes New Roman"/>
                <a:cs typeface="Times New Roman"/>
              </a:rPr>
              <a:t>இம்மாணவர்களுள்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சமூகத்தில் பின்தங்கியோர்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சிறப்புத் தேவையுடையோர்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சராசரி திறனுடையோர்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திறன் மிக்கவர்கள்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மீத்திறன் வாய்ந்தோர் மற்றும் படைப்பாற்றல் திறனுடையோர்</a:t>
            </a:r>
            <a:r>
              <a:rPr b="1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அடங்குவர்</a:t>
            </a:r>
            <a:r>
              <a:rPr b="1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1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imes New Roman"/>
                <a:cs typeface="Times New Roman"/>
              </a:rPr>
              <a:t>இம்மாணவர்கள் பள்ளிப்படிப்பை முடிக்கும் பொழுது தங்களுக்குள் உள்ள வேறுபாடுகளைக் களைந்து கற்றல் விளைவுகளை அடைய வேண்டும் என எதிர்பார்க்கப்படுகிறது</a:t>
            </a:r>
            <a:r>
              <a:rPr b="1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1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imes New Roman"/>
                <a:cs typeface="Times New Roman"/>
              </a:rPr>
              <a:t>பள்ளிக்கல்வியில் விரும்பத்தக்க தனியாள்</a:t>
            </a:r>
            <a:r>
              <a:rPr b="1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en-US" sz="2200" spc="-1" strike="noStrike">
                <a:solidFill>
                  <a:srgbClr val="404040"/>
                </a:solidFill>
                <a:latin typeface="Times New Roman"/>
                <a:cs typeface="Times New Roman"/>
              </a:rPr>
              <a:t>சமூக பண்புகளை வளர்க்க வேண்டும் என எதிர்பார்க்கப்படுகிறது</a:t>
            </a:r>
            <a:r>
              <a:rPr b="1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Date Placeholder 3"/>
          <p:cNvSpPr/>
          <p:nvPr/>
        </p:nvSpPr>
        <p:spPr>
          <a:xfrm>
            <a:off x="7920000" y="631836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F9B0-3D58-4B66-85FA-78140FF6B191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ooter Placeholder 5"/>
          <p:cNvSpPr/>
          <p:nvPr/>
        </p:nvSpPr>
        <p:spPr>
          <a:xfrm>
            <a:off x="1943280" y="640080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1552-172E-4FB1-8A1C-858A0794CC5F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9072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a5301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ொழி கற்பித்தலில் உள்ளடக்கம்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1066320" y="1219320"/>
            <a:ext cx="7867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ேச்சு மொழியைப் பயன்படுத்தும்போது ஏற்படும் இடர்பாடுகளை ஈடு செய்வதற்கு மாற்று தொடர்பு தொழில்நுட்பம் இருக்க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 algn="just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ழுதுவதில் குறைபாடுடைய குழந்தைகளுக்குத் தகவல் தொடர்பு தொழில்நுட்பத்தை பயன்படுத்த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 algn="just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ங்கெல்லாம் பல மொழி பயன்படுத்தப்படுகிறதோ அங்கே பெரும்பான்மையாக முன்னுரிமை வழங்கப்பட்ட மொழியை பயன்படுத்த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 algn="just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76FA-5D86-4BB2-9662-263794B34F92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AE97-4390-4045-9F7F-849DFA6BA7FC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ொழி கற்பித்தலில் உள்ளடக்கம்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ொடர்ச்சி…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1066320" y="1447920"/>
            <a:ext cx="7867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னைத்து மாணவர்களுக்கும் பி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ரெய்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ி மொழி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றியீட்டு மொழி ஆகியவைப்பற்றி விழிப்புணர்வும்  நுட்ப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வும் உருவாக்கப்பட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ர்வைக் குறைபாடு உள்ள குழந்தைகளுக்கு பி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ரெய்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ி நூலைப் படிப்பதற்கு மிகுந்த நேரம் தேவைப்படுகிறது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ுதிய சொற்களைப் புரிந்துகொள்வதில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ொற்களை வேறுபடுத்துதலில் பல்வேறு பொருள்பட வார்த்தைகளை புரிந்து கொள்வதற்கும் பார்வைக் குறைபாடுடைய மாணவர்களுக்கு ஆசிரியர்களும் அவர்களுடன் பணிபுரிபவர்களும் போதுமான உதவியை அளிக்க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24FD-8929-4507-94D9-212A720CCCFE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853F-7717-4D76-AAC6-DA94D67ABC32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ொழி கற்பித்தலில் உள்ளடக்கம்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ொடர்ச்சி…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1066320" y="1447920"/>
            <a:ext cx="7867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லக்கணம் பயன்படுத்துவதி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றந்த காலம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ுன்னிடைச்சொ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செய்வினை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செயப்பாட்டுவினை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டையூறு ஏற்படலாம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ஆசிரியர்கள் தொடர்களை அமைக்கும்போது எண்ணத்துக்கும் கருத்துக்கும் இடையே இணைப்பை உருவாக்குவதி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சொற்றொடர் பயன்படுத்து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எண்ணங்கள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ுரிதல் போன்றவற்றை ஒருங்கிணைப்பதிலும் கவனம் செலுத்த வேண்டும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றிவாற்றல் குறைபாடுடைய மாணவர்களுக்கு அவர்களுடைய உதவியாளர்களும் ஆசிரியர்களும் வாய்மொழி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ேட்ட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ருத்துக் கூறு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ேசு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டிக்கும் முறையி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சரளமாக பேசுவது மற்றும் தொடர்ச்சியாக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டித்தலி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செய்தியை பெறு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ொழி ஒலி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றிவு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ாழ்க்கையை அறி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தவி செய்ய வேண்டும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8590-3AB3-4677-9D66-92A098F8F2A9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A3C4-A5D0-402A-B6C5-E15192C9FF3F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 txBox="1"/>
          <p:nvPr/>
        </p:nvSpPr>
        <p:spPr>
          <a:xfrm>
            <a:off x="609120" y="1752480"/>
            <a:ext cx="832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ன்</a:t>
            </a:r>
            <a:r>
              <a:rPr b="1" lang="en-GB" sz="2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சொல்லுக்கு மாற்றாக வேறொரு சொல்லைப் புரிந்துகொள்ளலாம்</a:t>
            </a:r>
            <a:r>
              <a:rPr b="1" lang="en-US" sz="2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னை கவனத்தில் கொள்ள வேண்டும்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ில குழந்தைகளுக்கு எண்ணங்களை ஒருங்கிணைப்பதிலும்</a:t>
            </a:r>
            <a:r>
              <a:rPr b="1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ருப்புதலிலும்</a:t>
            </a:r>
            <a:r>
              <a:rPr b="1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ொற்களைக் கூறுவதிலும்</a:t>
            </a:r>
            <a:r>
              <a:rPr b="1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ோ</a:t>
            </a:r>
            <a:r>
              <a:rPr b="1" lang="en-US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ர்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ையாகக்  கதை கூறுதலிலும் கை</a:t>
            </a:r>
            <a:r>
              <a:rPr b="1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 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ும் கண்ணை ஒருங்கிணைத்துச் செயல்படுத்துவதிலும்</a:t>
            </a:r>
            <a:r>
              <a:rPr b="1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ழுதுவதிலும் இடர்பாடுகள் இருக்கலாம் என்பதை மனதில் கொள்ள வேண்டும்</a:t>
            </a:r>
            <a:r>
              <a:rPr b="0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0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9C19-14C7-4E8C-BDBF-0FF797EF3D6F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AD29-BFD4-4B95-9135-ECF025A5C6D9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ொழி கற்பித்தலில் உள்ளடக்கம்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ொடர்ச்சி…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344240" y="1080"/>
            <a:ext cx="7497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கணிதம் கற்பித்தலில் உள்ளடக்கம்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125360" y="534600"/>
            <a:ext cx="7942320" cy="617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ர்வைத் திறன் குறைபாடுடைய குழந்தைகளுக்கு கற்பிக்கும் ஆசிரியர்களுக்கும் இடம் சார்ந்த கருத்துகள் மற்றும் அவற்றிற்கிடையேயான தொடர்பினைப் புரிந்து கொள்ளவும் முப்பரிமாணங்களை இரு பரிமாணங்களாக மாற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றி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மைப்பதற்கும்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தவு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ணித்ததில் பயன்படுத்தப்படும் சிறப்பு குறியீடு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ளைக்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Symbols) 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ற்க சிரமப்படுகின்றனர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ரெய்லி முறையில் கணிதம் கற்றுக் கொள்வத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Nemeth)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 பிற செயல்களைக்  கற்பதில் சிரமத்த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களைய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ேவையான உதவி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புரிய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1E59-0DA6-4725-BAF9-6E47DEF1EABC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ooter Placeholder 4"/>
          <p:cNvSpPr/>
          <p:nvPr/>
        </p:nvSpPr>
        <p:spPr>
          <a:xfrm>
            <a:off x="1943280" y="6553080"/>
            <a:ext cx="571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D01B-2F0D-4C22-8F48-9AF7B53962ED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67276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செவித்திறன் குறைபாடு உடைய குழந்தைகளுக்கு ஆசிரியர்கள் மற்றும் பிறரால் கொடுக்கப்படும் உதவிகள்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990720" y="1089000"/>
            <a:ext cx="7875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றிவாற்றலில் குறைந்த மாணவ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ிசைப்படுத்துவதில் சிரமப்பட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டிநிலைகளில் கணக்குகளுக்குத் தீர்வு காண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டமதிப்பு காணல் ஆகியவற்றில் இடர்பாடுகளைக் காண்கின்றன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யற்கணிதம் மற்றும் முழு எண்களில் புலனாகாத கருத்துகளைப் புரிந்து கொள்வதில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டிவியலில் பிற வடிவங்களை அறி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சை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ைக் கணக்குகள் புரிந்து கொள்ளல் ஆகியவற்றிலும் சிரமங்களை சந்திக்க வாய்ப்புள்ள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C5F5-F63C-4A60-9F26-B78BDFD12A38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CDE3-2840-436D-8A0F-E1CBD17D877B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14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சூழ்நிலையியல் மற்றும் அறிவியல் கற்பித்தலில் உள்ளடக்கம்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609480" y="1066320"/>
            <a:ext cx="8477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ர்வைத்திறன் குறைபாடு</a:t>
            </a:r>
            <a:r>
              <a:rPr b="1" lang="en-GB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டைய  மாணவர்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ளுக்கு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ூடுதலான நேரங்களை ஒதுக்க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வித்திறன் குறைபாடு கொண்ட மாணவர்களுக்கு காட்சி கருவிகள் இல்லாமல் நடத்தும் போது புரிந்துகொள்வதில்  கடினம்</a:t>
            </a:r>
            <a:r>
              <a:rPr b="1" lang="en-GB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ஏற்ப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றிவாற்றல் குறைபாடுடைய குழந்தைகளுக்கு அறிவியலின் கலைச்சொற்களைப் புரிந்து கொள்வ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ற்கு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விரிவான திட்டமிடல்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கவல் தொழில்நுட்பத்தைப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ICT)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யன்படுத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தல்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ப்பார் குழுக் கற்ற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A844-6759-4B03-80BE-06F3A08EC973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7AA7-1FB3-463B-AAAF-9AD10C1B0125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21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சமூக அறிவியல் கற்பித்தலில் உள்ளடக்கம்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990720" y="1066680"/>
            <a:ext cx="79437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ர்வைத்திறன் குறைபாடு கொண்ட மாணவர்களுக்குப் புவியியல் சார்ந்த கலைச்சொற்கள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ருத்துகளைக் கற்பிக்கும் போது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கள் கவனமாகத் திட்டமிட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வித்திறன் குறை உள்ளவர்களுக்குக்  கலைச்சொற்கள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ொழில்நுட்பக் கருத்துக்கள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்மைகள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ப்பீடு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ரணம் மற்றும் விளைவு உறவுகள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ிசையான சம்பவப் பட்டியல் புரிந்து கொள்ள ஊக்கம் தேவைப்படுகிறது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1F55-B154-40A3-A026-338EDD595F4C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C9F7-5FB7-4053-AE30-8FB11C8DCB33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ள்ளட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்</a:t>
            </a: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ிய</a:t>
            </a:r>
            <a:r>
              <a:rPr b="1" lang="ta-IN" sz="3200" spc="-1" strike="noStrike">
                <a:solidFill>
                  <a:srgbClr val="9f8351"/>
                </a:solidFill>
                <a:latin typeface="Arial Unicode MS"/>
                <a:ea typeface="Arial Unicode MS"/>
              </a:rPr>
              <a:t> </a:t>
            </a: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திப்பீடு</a:t>
            </a:r>
            <a:r>
              <a:rPr b="1" lang="ta-IN" sz="3200" spc="-1" strike="noStrike">
                <a:solidFill>
                  <a:srgbClr val="9f8351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1096560" y="837720"/>
            <a:ext cx="79707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பாடத்தின்</a:t>
            </a:r>
            <a:r>
              <a:rPr b="1" lang="en-GB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றுதியி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ொடுக்கப்படும் மதிப்பீட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மது கற்பித்தலின் நோக்கங்கள் குழந்தைகளைச்  சென்றடைந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ை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அறிய உதவுகிறத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பன்முகத் திறன் உள்ள குழுவில் ஓ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ரு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ேள்விக்குப் பல்வேறு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ிடை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ள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அளிக்க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ஊக்கப்படுத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ெளிவானச் செய்திகளைக் கொடுக்கவும் கேள்வி கேட்டபிறகு பதிலளிப்பதற்குத் தேவையான கால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காசம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ொடுக்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டப்பொருளை விளக்கிக்</a:t>
            </a:r>
            <a:r>
              <a:rPr b="1" lang="en-GB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ூற பயன்படுத்திய செயல்பாடுகள் அனைத்தையும் மதிப்பீட்டிலும் பயன்படுத்தலாம் என்பத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ாம் நினைவில் கொள்ள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ந்தைகள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“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ீத்திறன் மிக்கவர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” “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ீத்திறன் குறைந்தவர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”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“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ொந்தரவு தருபவர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”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 அடையாளங்காண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ூடாத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1928-4D5F-45E6-BEC1-5FC5DC21C7CA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E56A-C36D-48FB-8AFF-A3D5C4CD0AE2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434960" y="198360"/>
            <a:ext cx="749952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ள்ளட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்</a:t>
            </a: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ிய</a:t>
            </a:r>
            <a:r>
              <a:rPr b="1" lang="ta-IN" sz="3200" spc="-1" strike="noStrike">
                <a:solidFill>
                  <a:srgbClr val="9f8351"/>
                </a:solidFill>
                <a:latin typeface="Arial Unicode MS"/>
                <a:ea typeface="Arial Unicode MS"/>
              </a:rPr>
              <a:t> </a:t>
            </a: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திப்பீடு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தொடர்ச்சி…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761760" y="1219320"/>
            <a:ext cx="83055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ேட்ட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Audio)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லங்களுக்கா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தில்களுக்கான வழிமுறையில் ஒரு சொல் துலங்கள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திலை ஏற்றுக்கொள்ளு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ேசுவதில் பிரச்சனையுடைய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ெதுவாகப் பேசும் மாணவர்களுக்குப் படங்கள் மற்றும் அஞ்சல்தலை அளவு படங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டையாளங்களைக் காட்டி கற்கச் செய்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டங்களைக்காட்டி அவற்றைப் பற்றிய விவரங்களை மாணவர்களையே கூறச் செய்யலா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ிடைகளைப்</a:t>
            </a:r>
            <a:r>
              <a:rPr b="1" lang="en-GB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ெறுவதற்கு மின்னட்டை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ொ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ட்டை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டங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்மைப் பொருள்களைப் பயன்படுத்தலா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ருத்துதல் செயல்பாடு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ிடையறியும் செயல்பாடுகளை உண்மை பொருள்களின் உதவியுடன் செய்து கற்கும் வழிமுறைகளை உருவாக்கலா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9A2B-5326-461F-94B0-CFAEC03E982A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B706-2120-46BD-B65F-6D0D451DE549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2439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Unicode MS"/>
                <a:cs typeface="Arial Unicode MS"/>
              </a:rPr>
              <a:t>தனியாள் – சமூகம் சார் பண்புகள்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1066320" y="966600"/>
            <a:ext cx="8077320" cy="55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 மாணவர்களின் வளர்ச்சியில் முக்கிய பங்கு வகிக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வு மற்றும் மனவெழுச்சி மாணவர்களின் கற்றலில் தாக்கத்தை ஏற்படுத்து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ேர்மறை உணர்வுகளான இன்ப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கிழ்ச்ச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ற்சாக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ர்வம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போன்ற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ை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ற்றலை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ேம்படுத்துகி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ற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திர்மறை உணர்வுகளான கோப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றாம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துகாப்பின்மை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வலை போன்றவை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ற்ற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ில் இடையூறாக  உள்ளன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8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7BE8-5958-4FDF-A64C-F926F0723CAB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FB8F-C969-46FB-AD43-9B3ADD7E91A4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68E8-7541-4114-AE1F-1E5350168C76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03F9-FBBF-43DB-88CE-A1E7124E493E}" type="slidenum">
              <a:rPr b="0" lang="en-US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OCSO – Protection Of  Children from Sexual Offences Act – 2012</a:t>
            </a:r>
            <a:br>
              <a:rPr sz="3000"/>
            </a:br>
            <a:r>
              <a:rPr b="0" lang="en-US" sz="3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(</a:t>
            </a:r>
            <a:r>
              <a:rPr b="0" lang="ta-IN" sz="30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ாலியல் குற்றங்களிலிருந்து</a:t>
            </a:r>
            <a:r>
              <a:rPr b="0" lang="en-US" sz="3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lang="ta-IN" sz="30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குழந்தைகளை பாதுகாக்கும் சட்டம்</a:t>
            </a:r>
            <a:r>
              <a:rPr b="0" lang="en-US" sz="3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lang="en-US" sz="3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 2012)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478" name="Picture 9" descr=""/>
          <p:cNvPicPr/>
          <p:nvPr/>
        </p:nvPicPr>
        <p:blipFill>
          <a:blip r:embed="rId1"/>
          <a:stretch/>
        </p:blipFill>
        <p:spPr>
          <a:xfrm>
            <a:off x="4567320" y="1981080"/>
            <a:ext cx="43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0" descr=""/>
          <p:cNvPicPr/>
          <p:nvPr/>
        </p:nvPicPr>
        <p:blipFill>
          <a:blip r:embed="rId2"/>
          <a:stretch/>
        </p:blipFill>
        <p:spPr>
          <a:xfrm>
            <a:off x="4511520" y="4206960"/>
            <a:ext cx="4443480" cy="199872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11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4114800" cy="20574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12" descr=""/>
          <p:cNvPicPr/>
          <p:nvPr/>
        </p:nvPicPr>
        <p:blipFill>
          <a:blip r:embed="rId4"/>
          <a:stretch/>
        </p:blipFill>
        <p:spPr>
          <a:xfrm>
            <a:off x="237960" y="1914480"/>
            <a:ext cx="4248360" cy="2346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249200" y="318600"/>
            <a:ext cx="7894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ாதுகாப்பான மற்றும் ஆரோக்கியமான பள்ளிச்சூழலை உருவாக்குதற்கான தகவல்கள்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1096920" y="1447920"/>
            <a:ext cx="7437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லந்துரையாடுவோமா</a:t>
            </a:r>
            <a:r>
              <a:rPr b="0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!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துகாப்பான பள்ளி என்றால் என்ன</a:t>
            </a:r>
            <a:r>
              <a:rPr b="0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் பள்ளி</a:t>
            </a:r>
            <a:r>
              <a:rPr b="0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0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ந்தைகளின் உடல்</a:t>
            </a:r>
            <a:r>
              <a:rPr b="0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0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 மற்றும் மனவெழுச்சி பாதுகாப்பை உறுதிப்படுத்த என்னென்ன நடவடிக்கைகளை எடுத்துள்ளது</a:t>
            </a:r>
            <a:r>
              <a:rPr b="0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ில் உங்களுடைய பங்கு யாது</a:t>
            </a:r>
            <a:r>
              <a:rPr b="0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04F2-CE7B-4FD2-865C-F70B605DFFD4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04F3-3175-4F94-9FBF-C2198C494232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</a:t>
            </a:r>
            <a:r>
              <a:rPr b="1" lang="ta-IN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குழந்தைகளுக்கான உதவி எண்</a:t>
            </a:r>
            <a:r>
              <a:rPr b="1" lang="en-US" sz="2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098-24x7</a:t>
            </a:r>
            <a:r>
              <a:rPr b="1" lang="en-US" sz="2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ta-IN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இளம் சிறார்களுக்கான உதவி எண்</a:t>
            </a:r>
            <a:r>
              <a:rPr b="1" lang="en-US" sz="2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)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456840" y="128556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ந்தைகளுக்கான உதவி எண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098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பது தேசிய அளவிலான ஆபத்தில் உள்ள குழந்தைகளுக்கா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24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ணிநேர கட்டணமில்லா அவசர சேவை அலைபேசி எண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ம் நாட்டில் குழந்தைகளுக்கான உதவி எண் மையங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412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டங்களில் செயல்பட்டு வருகின்ற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ஏப்ர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2016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ுதல் மார்ச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2017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.45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ோடி அழைப்புகள் வந்துள்ள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2017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ம் ஆண்டில் ஏப்ரல் முதல் நவம்பர் வர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78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ட்சத்திற்கும் மேற்பட்ட அழைப்புகள் வந்துள்ள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பத்தில் உள்ள குழந்தைகளுக்கு அலைபேசி வழி அறிவுரை வழங்குவதோடு மட்டுமல்லாமல் நேரடிய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ன்று பாதிப்பிற்குள்ளான குழந்தைகளை மீட்கவும் செய்கிறா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FAA2-C447-4486-8C05-539237127C52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E563-68E1-4C76-9FDE-5652223FAD03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POCSO (</a:t>
            </a:r>
            <a:r>
              <a:rPr b="0" lang="ta-IN" sz="3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ாலியல் குற்றங்களிலிருந்து </a:t>
            </a:r>
            <a:br>
              <a:rPr sz="3000"/>
            </a:br>
            <a:r>
              <a:rPr b="0" lang="en-US" sz="30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      </a:t>
            </a:r>
            <a:r>
              <a:rPr b="0" lang="ta-IN" sz="3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ுழந்தைகளை பாதுகாக்கும் சட்டம்</a:t>
            </a:r>
            <a:r>
              <a:rPr b="0" lang="en-US" sz="30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)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685440" y="1295280"/>
            <a:ext cx="845820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POCSO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(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லியல் குற்றங்களிலிருந்து குழந்தைகளை பாதுகாக்கும் சட்டம்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,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ின் பெட்டி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e-box)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பது குழந்தைகளுக்கு எதிரான பாலியல் குற்றங்களை எளிதாக அடையாளம் காணவும்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POCSO </a:t>
            </a:r>
            <a:r>
              <a:rPr b="1" lang="ta-IN" sz="18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சட்டம்</a:t>
            </a:r>
            <a:r>
              <a:rPr b="1" lang="en-US" sz="18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2012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் கீழ் குற்றவாளிகளின் மேல் சரியான நேரத்தில் நடவடிக்கை எடுப்பதற்கும் உதவக்கூடிய ஒரு மின் சேவை புகார் மேலாண்மை அமைப்பாகும்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POCSO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ின் பெட்டியின் இணையதள முகவரி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r>
              <a:rPr b="0" lang="en-US" sz="2800" spc="-1" strike="noStrike" u="sng">
                <a:solidFill>
                  <a:srgbClr val="fb4a18"/>
                </a:solidFill>
                <a:uFillTx/>
                <a:latin typeface="Arial Unicode MS"/>
                <a:ea typeface="Arial Unicode MS"/>
                <a:hlinkClick r:id="rId1"/>
              </a:rPr>
              <a:t>http</a:t>
            </a:r>
            <a:r>
              <a:rPr b="0" lang="en-US" sz="2800" spc="-1" strike="noStrike" u="sng">
                <a:solidFill>
                  <a:srgbClr val="fb4a18"/>
                </a:solidFill>
                <a:uFillTx/>
                <a:latin typeface="Arial Unicode MS"/>
                <a:ea typeface="Arial Unicode MS"/>
                <a:hlinkClick r:id="rId2"/>
              </a:rPr>
              <a:t>://www.ncpcr.gov.in/</a:t>
            </a:r>
            <a:r>
              <a:rPr b="0" lang="en-US" sz="2800" spc="-1" strike="noStrike" u="sng">
                <a:solidFill>
                  <a:srgbClr val="fb4a18"/>
                </a:solidFill>
                <a:uFillTx/>
                <a:latin typeface="Arial Unicode MS"/>
                <a:ea typeface="Arial Unicode MS"/>
                <a:hlinkClick r:id="rId3"/>
              </a:rPr>
              <a:t>user_com</a:t>
            </a:r>
            <a:r>
              <a:rPr b="0" lang="en-US" sz="2800" spc="-1" strike="noStrike" u="sng">
                <a:solidFill>
                  <a:srgbClr val="fb4a18"/>
                </a:solidFill>
                <a:uFillTx/>
                <a:latin typeface="Arial Unicode MS"/>
                <a:ea typeface="Arial Unicode MS"/>
                <a:hlinkClick r:id="rId4"/>
              </a:rPr>
              <a:t>plaints.php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ணையதள பாதுகாப்பு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ற்றி அறிந்து கொள்வதற்கான இணையதள முகவரி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http://www.ncpcr.gov.in/showfile.php.lang=1&amp;level=1&amp;&amp;sublinkid=1660&amp;lid= 1661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POCSO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ட்டத்தைப் பற்றி மாணவர்களுக்கு விழிப்புணர்வு ஏற்படுத்துவதற்காக ஆசிரியர்கள் தெரிந்து கொள்ள வேண்டிய இணையதள முகவரி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r>
              <a:rPr b="0" lang="en-US" sz="2400" spc="-1" strike="noStrike" u="sng">
                <a:solidFill>
                  <a:srgbClr val="fb4a18"/>
                </a:solidFill>
                <a:uFillTx/>
                <a:latin typeface="Arial Unicode MS"/>
                <a:ea typeface="Arial Unicode MS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fb4a18"/>
                </a:solidFill>
                <a:uFillTx/>
                <a:latin typeface="Arial Unicode MS"/>
                <a:ea typeface="Arial Unicode MS"/>
                <a:hlinkClick r:id="rId6"/>
              </a:rPr>
              <a:t>www.ncpcr.gov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in/showfile.php?lang=1&amp;level=1&amp;&amp;sublinkid=1289&amp;lid=1514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Date Placeholder 3"/>
          <p:cNvSpPr/>
          <p:nvPr/>
        </p:nvSpPr>
        <p:spPr>
          <a:xfrm>
            <a:off x="7772400" y="641196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30C5-A524-45AD-9C15-E60D9DF0076C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ooter Placeholder 4"/>
          <p:cNvSpPr/>
          <p:nvPr/>
        </p:nvSpPr>
        <p:spPr>
          <a:xfrm>
            <a:off x="1943280" y="64166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AE9D-AA0B-495A-8D71-6B10D9F3E9BB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096920" y="0"/>
            <a:ext cx="7818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</a:t>
            </a:r>
            <a:r>
              <a:rPr b="1" lang="en-US" sz="3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ள் </a:t>
            </a:r>
            <a:r>
              <a:rPr b="1" lang="ta-IN" sz="3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ுன்புறுத்தப்படுதலைப்</a:t>
            </a:r>
            <a:r>
              <a:rPr b="0" lang="ta-IN" sz="30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</a:t>
            </a:r>
            <a:r>
              <a:rPr b="1" lang="ta-IN" sz="3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ற்றிய விழிப்புணர்வை ஏற்படுத்தும் செயல்பாடு</a:t>
            </a:r>
            <a:br>
              <a:rPr sz="3000"/>
            </a:b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457200" y="1066680"/>
            <a:ext cx="868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ோக்க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ந்த செயல்பாடு தேவையற்ற சூழ்நிலை அல்லது சங்கடமான சூழ்நிலைகளில் ஏற்படும் உணர்வுகளை வெளிப்படுத்த மாணவர்களுக்கு விழிப்புணர்வை ஏற்படுத்துகிறத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டம் இரண்டு சூழ்நிலைகளைக் கொடுத்து அவற்றில் இரகசியம் பாதுகாக்கப்பட வேண்டியவை பற்றி கேட்டறி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 இதுபோன்ற சூழநிலைகளை வடிவமைத்து வழங்கலா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முதல் சூழ்நிலை</a:t>
            </a:r>
            <a:r>
              <a:rPr b="1" lang="en-US" sz="20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: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னுடைய அப்பா அல்லது அண்ணன் என் அக்கா நீண்ட நாள்களாக கேட்டுக் கொண்டிருந்த பொருளை வாங்கித் தர இருப்பதாகவும் அது அக்காவிற்கு ஆச்சரியமூட்டக்கூடியதாகவும் இருக்க வேண்டும் என என்னிடம் கூறினர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ேல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ந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்தி அக்காவிற்க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ெரியாமல் பார்த்துக் கொள்ள வேண்டும் எனவும் கூறினர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இரண்டாவது சூழ்நிலை</a:t>
            </a:r>
            <a:r>
              <a:rPr b="1" lang="en-US" sz="20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: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னுடன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0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ம் வகுப்பு படிக்கும் மாணவன் தினமும் என்னுடைய காலைச் சிற்றுண்டியை அவனுக்குத் தரும்படி அச்சுறுத்துகிறான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ேல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ச்செய்திய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ெற்றோரிடமோ அல்லது ஆசிரியரிடமோ கூறக் கூடாது எனவும் கூறுகிறான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Date Placeholder 3"/>
          <p:cNvSpPr/>
          <p:nvPr/>
        </p:nvSpPr>
        <p:spPr>
          <a:xfrm>
            <a:off x="7772400" y="648828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8ECD-D2F6-467F-BF7E-BF4B38B489AD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ooter Placeholder 4"/>
          <p:cNvSpPr/>
          <p:nvPr/>
        </p:nvSpPr>
        <p:spPr>
          <a:xfrm>
            <a:off x="1943280" y="64166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F81F-7EE2-4E95-8FCF-FFB87D6CE3D6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096920" y="0"/>
            <a:ext cx="7818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ள் 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ுன்புறுத்தப்படுதலைப்</a:t>
            </a:r>
            <a:r>
              <a:rPr b="0" lang="ta-IN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ற்றிய விழிப்புணர்வை ஏற்படுத்தும் செயல்பாடு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தொடர்ச்சி…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57200" y="1112760"/>
            <a:ext cx="868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கொடுக்கப்பட்டுள்ள இரண்டு சூழ்நிலைகளில் எதனை மற்றவரிடம் கலந்துரையாடுவது என்பதைப் பற்றிய தகவல்களை எழுத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ாங்கள் ஏன் அந்த சூழ்நிலையைத் தேர்ந்தெடுத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ீர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என்பதற்கான காரணத்தை அனைவரின் முன்னிலையிலும் சத்தமா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ூற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டுத்ததாக எந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ூழ்நிலையில் இரகசியத்த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க்க வேண்டும் என்றும் எந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ூழ்நிலையின் உணர்வுகளை அடுத்தவர்களிடம் வெளிப்படுத்த வேண்டும் என்ற முக்கியத்துவத்தை உணர்த்துவதற்கு உதவ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ங்கடமா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ை பாதிக்கக்கூடிய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ுடன் பகிர்ந்து கொள்ள இயலாத நிகழ்வுகளாக தாங்கள் கருதுபவற்றைக் குறித்து விவாதிக்க அல்லது எழுத மாணவர்களை ஊக்கப்படுத்த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ின் செயல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டத்தைகளால் ஏற்பட்ட சங்கடத்த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டும்ப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ண்பர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களிடம் பகிர்ந்து கொள்ள முற்பட்ட நிகழ்வைக் குறித்து மாணவர்களை விவாதிக்கச் செய்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A502-E7A3-4A55-98E3-8ED6302F9691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92CA-CCE6-4CA6-BD5F-51E9E9A71DBF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295280" y="-30600"/>
            <a:ext cx="784872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ள் தங்களின் உணர்வுகளை வெளிப்படுத்துவ</a:t>
            </a:r>
            <a:r>
              <a:rPr b="1" lang="en-US" sz="2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ை</a:t>
            </a:r>
            <a:r>
              <a:rPr b="1" lang="ta-IN" sz="2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மேம்பாடு</a:t>
            </a:r>
            <a:r>
              <a:rPr b="1" lang="en-US" sz="2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்துவதற்கான </a:t>
            </a:r>
            <a:r>
              <a:rPr b="1" lang="ta-IN" sz="2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செயல்பாடுகள்</a:t>
            </a:r>
            <a:endParaRPr b="0" lang="en-US" sz="2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380880" y="1143000"/>
            <a:ext cx="876312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துவாக மக்கள் மற்றவர்கள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ன்புறுத்தும்போது மாணவர்கள் தாங்கள் என்ன நினைக்கிறார்கள் என்பத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ழுதச் சொல்ல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டமிருந்த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ெறப்பட்ட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தகவல்களை இரண்ட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ரிவுகள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ரிக்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டலளவில் துன்புறுத்த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ளவில் துன்புறுத்த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உடலளவில் துன்புறுத்தும் செயல்கள்</a:t>
            </a:r>
            <a:r>
              <a:rPr b="1" lang="en-US" sz="2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: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டி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ள்ள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ிள்ளுதல் மற்றும் பாலியல் துன்புறுத்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மனதளவில் துன்புறுத்தும் செயல்கள்</a:t>
            </a:r>
            <a:r>
              <a:rPr b="1" lang="en-US" sz="2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: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ழுக்கக்கேடாக நடந்து கொள்ள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த்தமிடுதல் அவமானப்படுத்த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ங்கடப்படுத்த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யில் தனிமைப்படுத்த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ீட்டுக்குள்ளே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ெளியே அடைத்து பூட்டி வை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ண்பர்கள் பேசாமல் ஒதுக்கி வைத்தல் மற்றும் சங்கடமான சில செயல்கள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ட்டாயப்படுத்த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்ய வை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0BCC-9D72-4232-A7C3-B75E42D3ED50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ooter Placeholder 4"/>
          <p:cNvSpPr/>
          <p:nvPr/>
        </p:nvSpPr>
        <p:spPr>
          <a:xfrm>
            <a:off x="1943280" y="649296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4BA2-28CD-4820-AE4F-53578769441C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1218960" y="456840"/>
            <a:ext cx="784836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லந்துரையாடல் …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டலளவில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தளவிலும் பாதிக்கும் செயல்களை விளக்கு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வ்வாறு துன்புறுத்தும்போ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ாம் சோகமா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ோபமாகவும் ஒதுக்கப்பட்டதாகவும் சங்கடப்படுவதா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துகாப்பற்ற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ாகவும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உணருகிறோ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மாணவரிடம் கேட்க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ரேனும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ை மனதளவில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டலளவில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ன்புறுத்தியுள்ளனரா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ம்ம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ாமே காயப்படுத்தி உள்ளோமா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வ்வா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நண்பரோ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உறவினரோ அல்லது ஆசிரியரோ உம்ம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ன்புறுத்தும் வாய்ப்பு உள்ளதா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்வாறு நடக்குமானால் நீங்கள் அதைப்பற்றி யாரிடம் கூறுவீ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ேசுவீ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3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F3D4-4D06-4B35-B3E8-C511F107D195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583A-6717-47D1-9E6C-03C1BCC9755E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 txBox="1"/>
          <p:nvPr/>
        </p:nvSpPr>
        <p:spPr>
          <a:xfrm>
            <a:off x="1096560" y="380520"/>
            <a:ext cx="7589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ின் பணி…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றையில் கற்றலுக்கு ஏதுவான சூழலை ஏற்படுத்துவதில் ஆசிரியர்கள் முக்கிய பங்கு வகிக்கிறார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டல் மற்றும் மனவெழுச்சி ரீதியா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துகாப்பான நன்கு ஒருங்கமைக்கப்பட்ட வகுப்பறைச் சூழலில் மாணவர்கள் மேம்பட்ட கற்றலைப் பெறுகின்றனர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ச்சூழலை அனைத்து மாணவர்களுக்க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ஏற்படுத்தித் தர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மாணவரும் அனைத்து செயல்களையும் சிறப்பா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்வதற்கு ஏற்றவாறு அவருக்கே உரித்தான தனித்திறமைகள் கொண்டு செயல்படுகின்றனர் என்பதை ஆசிரியர்கள் நம்ப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ந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ல்விச் செயல்பாடுகள் மட்டுமல்லாது தனிப்பட்ட மற்றும் சமூக வாழ்க்கையிலும் திறம்பட செயல்படுவதற்கு ஊக்கப்படுத்த முயற்சிக்க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FAD4-6CEF-41B0-80F8-541CD166D85F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AE94-E852-47FD-B7A7-C27F0068B8BF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511200" y="-106560"/>
            <a:ext cx="863280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ஆசிரியர்கள்</a:t>
            </a:r>
            <a:r>
              <a:rPr b="1" lang="en-US" sz="2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ta-IN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மாணவர்களுக்கான தனி</a:t>
            </a:r>
            <a:r>
              <a:rPr b="1" lang="en-US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யாள்</a:t>
            </a:r>
            <a:r>
              <a:rPr b="1" lang="ta-IN" sz="2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சமூக பண்புகளை</a:t>
            </a:r>
            <a:r>
              <a:rPr b="1" lang="en-US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் </a:t>
            </a:r>
            <a:r>
              <a:rPr b="1" lang="ta-IN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ுரிந்து கொள்ள உதவும் செயல்பாடு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4568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6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ா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ரிக்க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ை முறையே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தல் மற்றும் அக்கற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்னையும் பிறரையும் மதித்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த்துழைப்ப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ச் செயல்பாட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றும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ிறந்த தகவல் தொடர்ப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லைமைப் பண்பு போன்ற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லைப்புகளைக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ரும்பலகையில் எழ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 அவற்றுள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தனி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ள்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-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ப்பண்ப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ளின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பட்டிய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ி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ிருந்து ஏதேனும் ஒன்றைத் தெரிவு செய்து கொள்ளச் சொல்ல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 உறுப்பினர்களை கலந்துரையாடச் செய்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ெரிவு செய்யப்பட்ட பண்பிலிருந்து அவர்கள் புரிந்து கொண்டது என்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ப்பண்பிற்கும் ஆசிரியர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ுக்கும் இடையேயான தொடர்பு என்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ா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ாக இப்பண்பை தங்களது அன்றாட வாழ்வில் எந்த அளவிற்கு சிறப்பாக வெளிப்படுத்துகிறீர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ீட்டில் இப்பண்பு எத்தகைய தாக்கத்தை ஏற்படுத்த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2" name="Date Placeholder 3"/>
          <p:cNvSpPr/>
          <p:nvPr/>
        </p:nvSpPr>
        <p:spPr>
          <a:xfrm>
            <a:off x="7772400" y="648828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0C82-2EBE-46FC-8460-AD2BC2DF801B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ooter Placeholder 4"/>
          <p:cNvSpPr/>
          <p:nvPr/>
        </p:nvSpPr>
        <p:spPr>
          <a:xfrm>
            <a:off x="1943280" y="649296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5DF1-7B91-4341-898F-5FBAA064D7C9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Unicode MS"/>
                <a:cs typeface="Arial Unicode MS"/>
              </a:rPr>
              <a:t>திறன் வாய்ந்த ஆசிரியர்கள்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990360" y="9903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ிறப்பாக கருத்துகளை எடுத்துரைக்கும் திறன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2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ந்தைகளிடம் ஒழுக்கத்தைத் தொடர்ந்து பேண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2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றையைத் திறம்பட கையாள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2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னைத்து வகை கற்போருக்கும் பொருத்தமானவராகத் திகழ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2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க்கே உரிய பாணியில் சிறந்த மாணவர்களை  வளர்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3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1EEA-2E5C-400B-A741-D85C289C639E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E263-5352-4725-96AE-64721FD86BBF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63DC-5616-4FAD-AE85-949C9BB33065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Picture 1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52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CF2F-38CB-482B-8792-664C66483220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2590560" y="2514600"/>
            <a:ext cx="392436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நன்றி</a:t>
            </a:r>
            <a:endParaRPr b="0" lang="en-US" sz="9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30" name="Picture 2" descr=""/>
          <p:cNvPicPr/>
          <p:nvPr/>
        </p:nvPicPr>
        <p:blipFill>
          <a:blip r:embed="rId2"/>
          <a:stretch/>
        </p:blipFill>
        <p:spPr>
          <a:xfrm>
            <a:off x="6400800" y="2835360"/>
            <a:ext cx="1096920" cy="1187280"/>
          </a:xfrm>
          <a:prstGeom prst="rect">
            <a:avLst/>
          </a:prstGeom>
          <a:ln w="0">
            <a:noFill/>
          </a:ln>
        </p:spPr>
      </p:pic>
      <p:pic>
        <p:nvPicPr>
          <p:cNvPr id="1531" name="Picture 7" descr=""/>
          <p:cNvPicPr/>
          <p:nvPr/>
        </p:nvPicPr>
        <p:blipFill>
          <a:blip r:embed="rId3"/>
          <a:stretch/>
        </p:blipFill>
        <p:spPr>
          <a:xfrm>
            <a:off x="1571760" y="2892600"/>
            <a:ext cx="1096920" cy="118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செயல்பாடு    </a:t>
            </a:r>
            <a:br>
              <a:rPr sz="2400"/>
            </a:b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னிநபர்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– 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சமூக பண்புகளை தங்களிடையேயும் பிறரிடமும் ஆசிரியர் கண்டறிவதற்கான செயல்பாடு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685800" y="1295280"/>
            <a:ext cx="82296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களைக் குழுக்களில் அமரச் சொல்லவும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ில் உள்ள ஒவ்வொருவரும் தங்கள் குடும்ப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ண்டை அயலா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ணிபுரியும் இட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றை போன்ற இடங்களில் உள்ள நபர்களில் தங்களுக்கு மிகவும் பிடித்த நபர்களின் பெயர்களைப் பட்டியலிடச் செய்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ந்த நபர்களிடம் காணப்படும் பண்புகளைப் பற்றி கலந்துரையாட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ுதாயத்திற்கு தேவைப்படும் முக்கிய நற்பண்புகளைப் பட்டியலிட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ச் செயல்பாடுகளில் ஈடுபடும்போது பட்டியலில் உள்ள நற்பண்புகளில் தங்களிடம் எவையெல்லாம் உள்ளன என்பதை உணர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8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19AA-7765-4F11-A378-0155E1618301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B95B-9DCF-478B-918D-1E69FCE0DB0C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31520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ள்ளிகளில் தனி</a:t>
            </a:r>
            <a:r>
              <a:rPr b="1" lang="en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யாள்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மற்றும் சமூக பண்புகளை வளர்ப்பதற்கான சாத்தியக் கூறுகள்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380520" y="11426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ச் செயல்க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ள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லை இறை வழிபாட்டுக்கூட்டம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ண்டுவிழா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ருவிழாக்களைக் கொண்டாடுதல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திய உணவு திட்டம்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ீட்டுத் தோட்டம்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ுற்றுச்சூழல் சங்கம்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ளைஞர் சங்கம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    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ோன்ற தனி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ள் 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-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 பண்புகள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ாழ்வியல் திறன்களான சுற்றுச்சூழலைப் பாதுகாத்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ப்பணி செய்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ரச்சனைகளைத் தீர்த்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ூர்சிந்தனைத்திறன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டைப்பாற்றல் திறன் போன்றவை மேம்படுவதற்கு போதுமான வழிமுறைகளாக அமைகின்ற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Date Placeholder 3"/>
          <p:cNvSpPr/>
          <p:nvPr/>
        </p:nvSpPr>
        <p:spPr>
          <a:xfrm>
            <a:off x="7772400" y="648828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4308-B59C-417C-8774-A8AC434DAB5F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ooter Placeholder 5"/>
          <p:cNvSpPr/>
          <p:nvPr/>
        </p:nvSpPr>
        <p:spPr>
          <a:xfrm>
            <a:off x="1943280" y="64166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63A0-3C27-46CB-A217-FB89C984C2BE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Arumbu</cp:lastModifiedBy>
  <dcterms:modified xsi:type="dcterms:W3CDTF">2019-10-03T21:16:03Z</dcterms:modified>
  <cp:revision>204</cp:revision>
  <dc:subject/>
  <dc:title>Developing Personal-social Qualities for Creating a Safe and Healthy School Environment</dc:title>
</cp:coreProperties>
</file>